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5CE-E076-4377-AD63-491C8C48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9E1-8901-4E6E-88B7-1A52D486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E95-DC23-4162-9F4F-0581D614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1A0-8136-40AD-9059-4ECAE086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5349-2271-4CDD-A372-C67D4C77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F46-234C-41F6-B181-2E68F2C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C7E1-DD02-4DB3-AFEF-53D5D280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537-6E39-4882-BECB-6048BDB2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7DF-892B-4FC9-9401-519C856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6056-D782-410C-A073-4B70D5E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1CA4-38CB-4C9E-9315-1E4AD08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7D8-29F1-4670-A6AE-7782577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3C5-A4BA-45AB-9E86-CD1557D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01E7-6B3A-42F0-82DB-4884397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E6A6-7F75-419B-B69B-6CD92CA7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F83F-70D5-4DB0-9A29-8AD19A6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F888-EAF6-4094-B978-86B95808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10B-6D09-42CA-A3ED-6C383196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B33-3E98-4DA2-981A-0DD312C7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9AB-F209-4E2B-A4AF-A66467E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BAC-CBCD-42EB-858F-7D00F35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DE6-37D3-4F58-A587-EB11152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BB6-ADA7-450A-9E1A-355C65DB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894-C84C-4F9E-AC82-2F43AEA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E3A5-2904-43D6-A229-EF07A44DF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B75-B446-4667-9093-66346B66F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Multip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14400" y="4267080"/>
                <a:ext cx="914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697040" y="2062080"/>
            <a:ext cx="1704960" cy="858960"/>
          </a:xfrm>
          <a:custGeom>
            <a:avLst/>
            <a:gdLst/>
            <a:ahLst/>
            <a:rect l="l" t="t" r="r" b="b"/>
            <a:pathLst>
              <a:path w="4739" h="2382">
                <a:moveTo>
                  <a:pt x="4713" y="6871"/>
                </a:moveTo>
                <a:cubicBezTo>
                  <a:pt x="4838" y="6814"/>
                  <a:pt x="4898" y="6808"/>
                  <a:pt x="5035" y="6796"/>
                </a:cubicBezTo>
              </a:path>
              <a:path w="4739" h="2382">
                <a:moveTo>
                  <a:pt x="4812" y="7045"/>
                </a:moveTo>
                <a:cubicBezTo>
                  <a:pt x="4870" y="7028"/>
                  <a:pt x="4928" y="7012"/>
                  <a:pt x="4986" y="6995"/>
                </a:cubicBezTo>
              </a:path>
              <a:path w="4739" h="2382">
                <a:moveTo>
                  <a:pt x="5457" y="6449"/>
                </a:moveTo>
                <a:cubicBezTo>
                  <a:pt x="5532" y="6441"/>
                  <a:pt x="5604" y="6430"/>
                  <a:pt x="5680" y="6424"/>
                </a:cubicBezTo>
                <a:cubicBezTo>
                  <a:pt x="5736" y="6593"/>
                  <a:pt x="5620" y="6647"/>
                  <a:pt x="5482" y="6772"/>
                </a:cubicBezTo>
                <a:cubicBezTo>
                  <a:pt x="5388" y="6858"/>
                  <a:pt x="5792" y="6778"/>
                  <a:pt x="5829" y="6772"/>
                </a:cubicBezTo>
              </a:path>
              <a:path w="4739" h="2382">
                <a:moveTo>
                  <a:pt x="6350" y="6276"/>
                </a:moveTo>
                <a:cubicBezTo>
                  <a:pt x="6255" y="6304"/>
                  <a:pt x="5915" y="6387"/>
                  <a:pt x="6127" y="6524"/>
                </a:cubicBezTo>
                <a:cubicBezTo>
                  <a:pt x="6321" y="6649"/>
                  <a:pt x="6372" y="6568"/>
                  <a:pt x="6400" y="6772"/>
                </a:cubicBezTo>
                <a:cubicBezTo>
                  <a:pt x="6276" y="6821"/>
                  <a:pt x="6235" y="6837"/>
                  <a:pt x="6152" y="6772"/>
                </a:cubicBezTo>
                <a:cubicBezTo>
                  <a:pt x="6194" y="6614"/>
                  <a:pt x="6240" y="6494"/>
                  <a:pt x="6325" y="6350"/>
                </a:cubicBezTo>
              </a:path>
              <a:path w="4739" h="2382">
                <a:moveTo>
                  <a:pt x="5482" y="7094"/>
                </a:moveTo>
                <a:cubicBezTo>
                  <a:pt x="5738" y="7048"/>
                  <a:pt x="5993" y="7008"/>
                  <a:pt x="6251" y="6970"/>
                </a:cubicBezTo>
                <a:cubicBezTo>
                  <a:pt x="6292" y="6962"/>
                  <a:pt x="6334" y="6953"/>
                  <a:pt x="6375" y="6945"/>
                </a:cubicBezTo>
              </a:path>
              <a:path w="4739" h="2382">
                <a:moveTo>
                  <a:pt x="5531" y="7342"/>
                </a:moveTo>
                <a:cubicBezTo>
                  <a:pt x="5403" y="7585"/>
                  <a:pt x="5516" y="7542"/>
                  <a:pt x="5730" y="7491"/>
                </a:cubicBezTo>
              </a:path>
              <a:path w="4739" h="2382">
                <a:moveTo>
                  <a:pt x="5829" y="7243"/>
                </a:moveTo>
                <a:cubicBezTo>
                  <a:pt x="5775" y="7405"/>
                  <a:pt x="5763" y="7568"/>
                  <a:pt x="5755" y="7739"/>
                </a:cubicBezTo>
              </a:path>
              <a:path w="4739" h="2382">
                <a:moveTo>
                  <a:pt x="6077" y="7268"/>
                </a:moveTo>
                <a:cubicBezTo>
                  <a:pt x="6004" y="7406"/>
                  <a:pt x="5991" y="7485"/>
                  <a:pt x="5978" y="7640"/>
                </a:cubicBezTo>
                <a:cubicBezTo>
                  <a:pt x="6133" y="7709"/>
                  <a:pt x="6477" y="7698"/>
                  <a:pt x="6350" y="7392"/>
                </a:cubicBezTo>
                <a:cubicBezTo>
                  <a:pt x="6239" y="7336"/>
                  <a:pt x="6193" y="7317"/>
                  <a:pt x="6102" y="7317"/>
                </a:cubicBezTo>
              </a:path>
              <a:path w="4739" h="2382">
                <a:moveTo>
                  <a:pt x="6722" y="6573"/>
                </a:moveTo>
                <a:cubicBezTo>
                  <a:pt x="6772" y="6573"/>
                  <a:pt x="6805" y="6573"/>
                  <a:pt x="6846" y="6573"/>
                </a:cubicBezTo>
              </a:path>
              <a:path w="4739" h="2382">
                <a:moveTo>
                  <a:pt x="6846" y="6375"/>
                </a:moveTo>
                <a:lnTo>
                  <a:pt x="6846" y="6375"/>
                </a:lnTo>
              </a:path>
              <a:path w="4739" h="2382">
                <a:moveTo>
                  <a:pt x="6846" y="6772"/>
                </a:moveTo>
                <a:lnTo>
                  <a:pt x="6846" y="6772"/>
                </a:lnTo>
              </a:path>
              <a:path w="4739" h="2382">
                <a:moveTo>
                  <a:pt x="7218" y="6424"/>
                </a:moveTo>
                <a:cubicBezTo>
                  <a:pt x="7097" y="6594"/>
                  <a:pt x="7182" y="6550"/>
                  <a:pt x="7342" y="6524"/>
                </a:cubicBezTo>
              </a:path>
              <a:path w="4739" h="2382">
                <a:moveTo>
                  <a:pt x="7392" y="6276"/>
                </a:moveTo>
                <a:cubicBezTo>
                  <a:pt x="7359" y="6429"/>
                  <a:pt x="7348" y="6565"/>
                  <a:pt x="7342" y="6722"/>
                </a:cubicBezTo>
              </a:path>
              <a:path w="4739" h="2382">
                <a:moveTo>
                  <a:pt x="6747" y="7615"/>
                </a:moveTo>
                <a:cubicBezTo>
                  <a:pt x="6805" y="7615"/>
                  <a:pt x="6863" y="7615"/>
                  <a:pt x="6921" y="7615"/>
                </a:cubicBezTo>
              </a:path>
              <a:path w="4739" h="2382">
                <a:moveTo>
                  <a:pt x="6747" y="7466"/>
                </a:moveTo>
                <a:lnTo>
                  <a:pt x="6747" y="7466"/>
                </a:lnTo>
              </a:path>
              <a:path w="4739" h="2382">
                <a:moveTo>
                  <a:pt x="6722" y="7813"/>
                </a:moveTo>
                <a:lnTo>
                  <a:pt x="6722" y="7813"/>
                </a:lnTo>
              </a:path>
              <a:path w="4739" h="2382">
                <a:moveTo>
                  <a:pt x="7094" y="7491"/>
                </a:moveTo>
                <a:cubicBezTo>
                  <a:pt x="7163" y="7571"/>
                  <a:pt x="7161" y="7558"/>
                  <a:pt x="7268" y="7541"/>
                </a:cubicBezTo>
              </a:path>
              <a:path w="4739" h="2382">
                <a:moveTo>
                  <a:pt x="7293" y="7293"/>
                </a:moveTo>
                <a:cubicBezTo>
                  <a:pt x="7260" y="7455"/>
                  <a:pt x="7284" y="7599"/>
                  <a:pt x="7293" y="7764"/>
                </a:cubicBezTo>
              </a:path>
              <a:path w="4739" h="2382">
                <a:moveTo>
                  <a:pt x="7714" y="6995"/>
                </a:moveTo>
                <a:cubicBezTo>
                  <a:pt x="7797" y="6995"/>
                  <a:pt x="7830" y="6995"/>
                  <a:pt x="7888" y="6995"/>
                </a:cubicBezTo>
              </a:path>
              <a:path w="4739" h="2382">
                <a:moveTo>
                  <a:pt x="7714" y="7169"/>
                </a:moveTo>
                <a:cubicBezTo>
                  <a:pt x="7764" y="7152"/>
                  <a:pt x="7813" y="7136"/>
                  <a:pt x="7863" y="7119"/>
                </a:cubicBezTo>
              </a:path>
              <a:path w="4739" h="2382">
                <a:moveTo>
                  <a:pt x="8409" y="6226"/>
                </a:moveTo>
                <a:cubicBezTo>
                  <a:pt x="8545" y="6196"/>
                  <a:pt x="8665" y="6161"/>
                  <a:pt x="8806" y="6152"/>
                </a:cubicBezTo>
                <a:cubicBezTo>
                  <a:pt x="8776" y="6331"/>
                  <a:pt x="8694" y="6500"/>
                  <a:pt x="8632" y="6672"/>
                </a:cubicBezTo>
              </a:path>
              <a:path w="4739" h="2382">
                <a:moveTo>
                  <a:pt x="8310" y="6945"/>
                </a:moveTo>
                <a:cubicBezTo>
                  <a:pt x="8534" y="6927"/>
                  <a:pt x="8757" y="6902"/>
                  <a:pt x="8979" y="6871"/>
                </a:cubicBezTo>
              </a:path>
              <a:path w="4739" h="2382">
                <a:moveTo>
                  <a:pt x="8409" y="7218"/>
                </a:moveTo>
                <a:cubicBezTo>
                  <a:pt x="8379" y="7369"/>
                  <a:pt x="8355" y="7531"/>
                  <a:pt x="8334" y="7689"/>
                </a:cubicBezTo>
              </a:path>
              <a:path w="4739" h="2382">
                <a:moveTo>
                  <a:pt x="8781" y="7218"/>
                </a:moveTo>
                <a:cubicBezTo>
                  <a:pt x="8593" y="7272"/>
                  <a:pt x="8599" y="7387"/>
                  <a:pt x="8632" y="7590"/>
                </a:cubicBezTo>
                <a:cubicBezTo>
                  <a:pt x="8640" y="7623"/>
                  <a:pt x="8649" y="7656"/>
                  <a:pt x="8657" y="7689"/>
                </a:cubicBezTo>
                <a:cubicBezTo>
                  <a:pt x="8788" y="7669"/>
                  <a:pt x="8935" y="7603"/>
                  <a:pt x="8954" y="7441"/>
                </a:cubicBezTo>
                <a:cubicBezTo>
                  <a:pt x="8965" y="7343"/>
                  <a:pt x="8873" y="7242"/>
                  <a:pt x="8806" y="7193"/>
                </a:cubicBezTo>
              </a:path>
              <a:path w="4739" h="2382">
                <a:moveTo>
                  <a:pt x="7863" y="7590"/>
                </a:moveTo>
                <a:cubicBezTo>
                  <a:pt x="7894" y="7706"/>
                  <a:pt x="7912" y="7842"/>
                  <a:pt x="7987" y="7938"/>
                </a:cubicBezTo>
                <a:cubicBezTo>
                  <a:pt x="8092" y="8071"/>
                  <a:pt x="8275" y="8099"/>
                  <a:pt x="8434" y="8111"/>
                </a:cubicBezTo>
                <a:cubicBezTo>
                  <a:pt x="8617" y="8125"/>
                  <a:pt x="8792" y="8070"/>
                  <a:pt x="8954" y="7987"/>
                </a:cubicBezTo>
                <a:cubicBezTo>
                  <a:pt x="9100" y="7912"/>
                  <a:pt x="9238" y="7710"/>
                  <a:pt x="9302" y="7565"/>
                </a:cubicBezTo>
                <a:cubicBezTo>
                  <a:pt x="9363" y="7427"/>
                  <a:pt x="9393" y="7241"/>
                  <a:pt x="9426" y="7094"/>
                </a:cubicBezTo>
                <a:cubicBezTo>
                  <a:pt x="9458" y="6949"/>
                  <a:pt x="9447" y="6816"/>
                  <a:pt x="9426" y="6672"/>
                </a:cubicBezTo>
                <a:cubicBezTo>
                  <a:pt x="9394" y="6458"/>
                  <a:pt x="9352" y="6308"/>
                  <a:pt x="9203" y="6152"/>
                </a:cubicBezTo>
                <a:cubicBezTo>
                  <a:pt x="9111" y="6056"/>
                  <a:pt x="9008" y="5961"/>
                  <a:pt x="8905" y="5879"/>
                </a:cubicBezTo>
                <a:cubicBezTo>
                  <a:pt x="8803" y="5798"/>
                  <a:pt x="8698" y="5726"/>
                  <a:pt x="8558" y="5730"/>
                </a:cubicBezTo>
                <a:cubicBezTo>
                  <a:pt x="8382" y="5735"/>
                  <a:pt x="8205" y="5834"/>
                  <a:pt x="8062" y="5928"/>
                </a:cubicBezTo>
                <a:cubicBezTo>
                  <a:pt x="7899" y="6036"/>
                  <a:pt x="7875" y="6171"/>
                  <a:pt x="7838" y="6350"/>
                </a:cubicBezTo>
                <a:cubicBezTo>
                  <a:pt x="7808" y="6495"/>
                  <a:pt x="7789" y="6625"/>
                  <a:pt x="7789" y="6772"/>
                </a:cubicBezTo>
                <a:cubicBezTo>
                  <a:pt x="7789" y="6876"/>
                  <a:pt x="7810" y="6968"/>
                  <a:pt x="7813" y="7069"/>
                </a:cubicBezTo>
                <a:cubicBezTo>
                  <a:pt x="7816" y="7174"/>
                  <a:pt x="7838" y="7256"/>
                  <a:pt x="7838" y="7367"/>
                </a:cubicBezTo>
                <a:cubicBezTo>
                  <a:pt x="7838" y="7499"/>
                  <a:pt x="7860" y="7685"/>
                  <a:pt x="7888" y="7813"/>
                </a:cubicBezTo>
                <a:cubicBezTo>
                  <a:pt x="7896" y="7830"/>
                  <a:pt x="7905" y="7846"/>
                  <a:pt x="7913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27" y="6945"/>
                </a:moveTo>
                <a:lnTo>
                  <a:pt x="22027" y="694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76880" y="1963800"/>
            <a:ext cx="1992240" cy="1019160"/>
          </a:xfrm>
          <a:custGeom>
            <a:avLst/>
            <a:gdLst/>
            <a:ahLst/>
            <a:rect l="l" t="t" r="r" b="b"/>
            <a:pathLst>
              <a:path w="5532" h="2829">
                <a:moveTo>
                  <a:pt x="14883" y="6350"/>
                </a:moveTo>
                <a:cubicBezTo>
                  <a:pt x="14897" y="6523"/>
                  <a:pt x="14893" y="6610"/>
                  <a:pt x="14833" y="6772"/>
                </a:cubicBezTo>
                <a:cubicBezTo>
                  <a:pt x="15011" y="6746"/>
                  <a:pt x="15073" y="6736"/>
                  <a:pt x="15180" y="6672"/>
                </a:cubicBezTo>
              </a:path>
              <a:path w="5532" h="2829">
                <a:moveTo>
                  <a:pt x="15230" y="6300"/>
                </a:moveTo>
                <a:cubicBezTo>
                  <a:pt x="15207" y="6579"/>
                  <a:pt x="15182" y="6846"/>
                  <a:pt x="15131" y="7119"/>
                </a:cubicBezTo>
              </a:path>
              <a:path w="5532" h="2829">
                <a:moveTo>
                  <a:pt x="14660" y="7293"/>
                </a:moveTo>
                <a:cubicBezTo>
                  <a:pt x="14944" y="7257"/>
                  <a:pt x="15217" y="7218"/>
                  <a:pt x="15503" y="7218"/>
                </a:cubicBezTo>
              </a:path>
              <a:path w="5532" h="2829">
                <a:moveTo>
                  <a:pt x="15230" y="7491"/>
                </a:moveTo>
                <a:cubicBezTo>
                  <a:pt x="15175" y="7472"/>
                  <a:pt x="15052" y="7398"/>
                  <a:pt x="15007" y="7466"/>
                </a:cubicBezTo>
                <a:cubicBezTo>
                  <a:pt x="14962" y="7534"/>
                  <a:pt x="14940" y="7615"/>
                  <a:pt x="14908" y="7689"/>
                </a:cubicBezTo>
                <a:cubicBezTo>
                  <a:pt x="15036" y="7657"/>
                  <a:pt x="15349" y="7534"/>
                  <a:pt x="15304" y="7813"/>
                </a:cubicBezTo>
                <a:cubicBezTo>
                  <a:pt x="15259" y="8087"/>
                  <a:pt x="14939" y="8019"/>
                  <a:pt x="14784" y="7962"/>
                </a:cubicBezTo>
              </a:path>
              <a:path w="5532" h="2829">
                <a:moveTo>
                  <a:pt x="15776" y="7119"/>
                </a:moveTo>
                <a:cubicBezTo>
                  <a:pt x="15926" y="7221"/>
                  <a:pt x="16063" y="7321"/>
                  <a:pt x="16197" y="7441"/>
                </a:cubicBezTo>
              </a:path>
              <a:path w="5532" h="2829">
                <a:moveTo>
                  <a:pt x="15925" y="7144"/>
                </a:moveTo>
                <a:cubicBezTo>
                  <a:pt x="15902" y="7348"/>
                  <a:pt x="15902" y="7405"/>
                  <a:pt x="15825" y="7516"/>
                </a:cubicBezTo>
              </a:path>
              <a:path w="5532" h="2829">
                <a:moveTo>
                  <a:pt x="16545" y="6548"/>
                </a:moveTo>
                <a:cubicBezTo>
                  <a:pt x="16729" y="6605"/>
                  <a:pt x="16855" y="6584"/>
                  <a:pt x="17041" y="6548"/>
                </a:cubicBezTo>
                <a:cubicBezTo>
                  <a:pt x="17111" y="6732"/>
                  <a:pt x="17028" y="6919"/>
                  <a:pt x="16966" y="7119"/>
                </a:cubicBezTo>
              </a:path>
              <a:path w="5532" h="2829">
                <a:moveTo>
                  <a:pt x="16545" y="7317"/>
                </a:moveTo>
                <a:cubicBezTo>
                  <a:pt x="16760" y="7274"/>
                  <a:pt x="16974" y="7232"/>
                  <a:pt x="17190" y="7193"/>
                </a:cubicBezTo>
              </a:path>
              <a:path w="5532" h="2829">
                <a:moveTo>
                  <a:pt x="17140" y="7541"/>
                </a:moveTo>
                <a:cubicBezTo>
                  <a:pt x="17021" y="7637"/>
                  <a:pt x="16922" y="7715"/>
                  <a:pt x="16842" y="7838"/>
                </a:cubicBezTo>
                <a:cubicBezTo>
                  <a:pt x="17029" y="7869"/>
                  <a:pt x="17178" y="7825"/>
                  <a:pt x="17289" y="7962"/>
                </a:cubicBezTo>
                <a:cubicBezTo>
                  <a:pt x="16967" y="8124"/>
                  <a:pt x="17035" y="7999"/>
                  <a:pt x="17090" y="7689"/>
                </a:cubicBezTo>
              </a:path>
              <a:path w="5532" h="2829">
                <a:moveTo>
                  <a:pt x="15925" y="7119"/>
                </a:moveTo>
                <a:cubicBezTo>
                  <a:pt x="15979" y="7055"/>
                  <a:pt x="15961" y="7061"/>
                  <a:pt x="16024" y="7020"/>
                </a:cubicBezTo>
                <a:cubicBezTo>
                  <a:pt x="15990" y="7086"/>
                  <a:pt x="15974" y="7119"/>
                  <a:pt x="15949" y="7169"/>
                </a:cubicBezTo>
              </a:path>
              <a:path w="5532" h="2829">
                <a:moveTo>
                  <a:pt x="14684" y="6201"/>
                </a:moveTo>
                <a:cubicBezTo>
                  <a:pt x="14877" y="6464"/>
                  <a:pt x="15059" y="6686"/>
                  <a:pt x="15304" y="6896"/>
                </a:cubicBezTo>
                <a:cubicBezTo>
                  <a:pt x="15372" y="6954"/>
                  <a:pt x="15398" y="6991"/>
                  <a:pt x="15453" y="7069"/>
                </a:cubicBezTo>
              </a:path>
              <a:path w="5532" h="2829">
                <a:moveTo>
                  <a:pt x="14982" y="5457"/>
                </a:moveTo>
                <a:cubicBezTo>
                  <a:pt x="14955" y="5647"/>
                  <a:pt x="14925" y="5838"/>
                  <a:pt x="14908" y="6028"/>
                </a:cubicBezTo>
              </a:path>
              <a:path w="5532" h="2829">
                <a:moveTo>
                  <a:pt x="16594" y="7466"/>
                </a:moveTo>
                <a:cubicBezTo>
                  <a:pt x="16786" y="7658"/>
                  <a:pt x="16960" y="7886"/>
                  <a:pt x="17165" y="8062"/>
                </a:cubicBezTo>
                <a:cubicBezTo>
                  <a:pt x="17181" y="8070"/>
                  <a:pt x="17198" y="8078"/>
                  <a:pt x="17214" y="8086"/>
                </a:cubicBezTo>
              </a:path>
              <a:path w="5532" h="2829">
                <a:moveTo>
                  <a:pt x="17537" y="7764"/>
                </a:moveTo>
                <a:cubicBezTo>
                  <a:pt x="17624" y="7749"/>
                  <a:pt x="17727" y="7710"/>
                  <a:pt x="17760" y="7838"/>
                </a:cubicBezTo>
                <a:cubicBezTo>
                  <a:pt x="17815" y="8052"/>
                  <a:pt x="17623" y="8177"/>
                  <a:pt x="17462" y="8260"/>
                </a:cubicBezTo>
                <a:cubicBezTo>
                  <a:pt x="17437" y="8268"/>
                  <a:pt x="17413" y="8277"/>
                  <a:pt x="17388" y="8285"/>
                </a:cubicBezTo>
                <a:cubicBezTo>
                  <a:pt x="17550" y="8195"/>
                  <a:pt x="17693" y="8142"/>
                  <a:pt x="17884" y="8186"/>
                </a:cubicBezTo>
                <a:cubicBezTo>
                  <a:pt x="17901" y="8194"/>
                  <a:pt x="17917" y="8202"/>
                  <a:pt x="17934" y="8210"/>
                </a:cubicBezTo>
              </a:path>
              <a:path w="5532" h="2829">
                <a:moveTo>
                  <a:pt x="17711" y="7144"/>
                </a:moveTo>
                <a:cubicBezTo>
                  <a:pt x="17828" y="7129"/>
                  <a:pt x="17940" y="7102"/>
                  <a:pt x="18058" y="7094"/>
                </a:cubicBezTo>
              </a:path>
              <a:path w="5532" h="2829">
                <a:moveTo>
                  <a:pt x="17760" y="7342"/>
                </a:moveTo>
                <a:cubicBezTo>
                  <a:pt x="17884" y="7301"/>
                  <a:pt x="18012" y="7267"/>
                  <a:pt x="18132" y="7218"/>
                </a:cubicBezTo>
              </a:path>
              <a:path w="5532" h="2829">
                <a:moveTo>
                  <a:pt x="18777" y="6524"/>
                </a:moveTo>
                <a:cubicBezTo>
                  <a:pt x="18939" y="6524"/>
                  <a:pt x="19090" y="6526"/>
                  <a:pt x="19248" y="6499"/>
                </a:cubicBezTo>
                <a:cubicBezTo>
                  <a:pt x="19221" y="6680"/>
                  <a:pt x="19167" y="6786"/>
                  <a:pt x="19075" y="6945"/>
                </a:cubicBezTo>
              </a:path>
              <a:path w="5532" h="2829">
                <a:moveTo>
                  <a:pt x="18628" y="7218"/>
                </a:moveTo>
                <a:cubicBezTo>
                  <a:pt x="18877" y="7165"/>
                  <a:pt x="19119" y="7104"/>
                  <a:pt x="19372" y="7069"/>
                </a:cubicBezTo>
                <a:cubicBezTo>
                  <a:pt x="19380" y="7069"/>
                  <a:pt x="19389" y="7069"/>
                  <a:pt x="19397" y="7069"/>
                </a:cubicBezTo>
              </a:path>
              <a:path w="5532" h="2829">
                <a:moveTo>
                  <a:pt x="18777" y="7466"/>
                </a:moveTo>
                <a:cubicBezTo>
                  <a:pt x="18795" y="7643"/>
                  <a:pt x="18800" y="7786"/>
                  <a:pt x="18777" y="7962"/>
                </a:cubicBezTo>
              </a:path>
              <a:path w="5532" h="2829">
                <a:moveTo>
                  <a:pt x="19174" y="7516"/>
                </a:moveTo>
                <a:cubicBezTo>
                  <a:pt x="19155" y="7708"/>
                  <a:pt x="19143" y="7810"/>
                  <a:pt x="19199" y="7987"/>
                </a:cubicBezTo>
                <a:cubicBezTo>
                  <a:pt x="19319" y="7930"/>
                  <a:pt x="19602" y="7763"/>
                  <a:pt x="19422" y="7590"/>
                </a:cubicBezTo>
                <a:cubicBezTo>
                  <a:pt x="19381" y="7574"/>
                  <a:pt x="19339" y="7557"/>
                  <a:pt x="19298" y="7541"/>
                </a:cubicBezTo>
              </a:path>
              <a:path w="5532" h="2829">
                <a:moveTo>
                  <a:pt x="18529" y="7938"/>
                </a:moveTo>
                <a:cubicBezTo>
                  <a:pt x="18691" y="8087"/>
                  <a:pt x="18848" y="8183"/>
                  <a:pt x="19075" y="8210"/>
                </a:cubicBezTo>
                <a:cubicBezTo>
                  <a:pt x="19416" y="8250"/>
                  <a:pt x="19757" y="8041"/>
                  <a:pt x="19943" y="7764"/>
                </a:cubicBezTo>
                <a:cubicBezTo>
                  <a:pt x="20263" y="7287"/>
                  <a:pt x="20254" y="6733"/>
                  <a:pt x="20017" y="6226"/>
                </a:cubicBezTo>
                <a:cubicBezTo>
                  <a:pt x="19903" y="5982"/>
                  <a:pt x="19568" y="5928"/>
                  <a:pt x="19323" y="5928"/>
                </a:cubicBezTo>
                <a:cubicBezTo>
                  <a:pt x="19030" y="5928"/>
                  <a:pt x="18679" y="6032"/>
                  <a:pt x="18455" y="6226"/>
                </a:cubicBezTo>
                <a:cubicBezTo>
                  <a:pt x="18121" y="6516"/>
                  <a:pt x="18074" y="6960"/>
                  <a:pt x="18157" y="7367"/>
                </a:cubicBezTo>
                <a:cubicBezTo>
                  <a:pt x="18224" y="7692"/>
                  <a:pt x="18369" y="7851"/>
                  <a:pt x="18579" y="808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8160" y="3589200"/>
            <a:ext cx="339840" cy="2336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2902" y="9996"/>
                </a:moveTo>
                <a:cubicBezTo>
                  <a:pt x="2886" y="9988"/>
                  <a:pt x="2869" y="9979"/>
                  <a:pt x="2853" y="9971"/>
                </a:cubicBezTo>
              </a:path>
              <a:path w="944" h="646">
                <a:moveTo>
                  <a:pt x="2679" y="9996"/>
                </a:moveTo>
                <a:cubicBezTo>
                  <a:pt x="2662" y="9996"/>
                  <a:pt x="2646" y="9996"/>
                  <a:pt x="2629" y="9996"/>
                </a:cubicBezTo>
                <a:cubicBezTo>
                  <a:pt x="2579" y="10071"/>
                  <a:pt x="2953" y="10021"/>
                  <a:pt x="3001" y="10021"/>
                </a:cubicBezTo>
                <a:cubicBezTo>
                  <a:pt x="3185" y="10021"/>
                  <a:pt x="3363" y="9996"/>
                  <a:pt x="3547" y="9996"/>
                </a:cubicBezTo>
              </a:path>
              <a:path w="944" h="646">
                <a:moveTo>
                  <a:pt x="3051" y="10170"/>
                </a:moveTo>
                <a:cubicBezTo>
                  <a:pt x="3024" y="10318"/>
                  <a:pt x="3017" y="10487"/>
                  <a:pt x="2952" y="1061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62080" y="3313080"/>
            <a:ext cx="2197080" cy="1339920"/>
          </a:xfrm>
          <a:custGeom>
            <a:avLst/>
            <a:gdLst/>
            <a:ahLst/>
            <a:rect l="l" t="t" r="r" b="b"/>
            <a:pathLst>
              <a:path w="6103" h="3721">
                <a:moveTo>
                  <a:pt x="5755" y="9971"/>
                </a:moveTo>
                <a:cubicBezTo>
                  <a:pt x="5862" y="9971"/>
                  <a:pt x="5970" y="9971"/>
                  <a:pt x="6077" y="9971"/>
                </a:cubicBezTo>
              </a:path>
              <a:path w="6103" h="3721">
                <a:moveTo>
                  <a:pt x="5730" y="10195"/>
                </a:moveTo>
                <a:cubicBezTo>
                  <a:pt x="5851" y="10232"/>
                  <a:pt x="5950" y="10244"/>
                  <a:pt x="6077" y="10244"/>
                </a:cubicBezTo>
              </a:path>
              <a:path w="6103" h="3721">
                <a:moveTo>
                  <a:pt x="6697" y="9575"/>
                </a:moveTo>
                <a:cubicBezTo>
                  <a:pt x="6834" y="9456"/>
                  <a:pt x="6801" y="9453"/>
                  <a:pt x="6970" y="9475"/>
                </a:cubicBezTo>
                <a:cubicBezTo>
                  <a:pt x="6959" y="9646"/>
                  <a:pt x="6936" y="9721"/>
                  <a:pt x="6821" y="9847"/>
                </a:cubicBezTo>
                <a:cubicBezTo>
                  <a:pt x="6966" y="9780"/>
                  <a:pt x="7103" y="9830"/>
                  <a:pt x="6970" y="10021"/>
                </a:cubicBezTo>
                <a:cubicBezTo>
                  <a:pt x="6881" y="10149"/>
                  <a:pt x="6787" y="10147"/>
                  <a:pt x="6672" y="10071"/>
                </a:cubicBezTo>
              </a:path>
              <a:path w="6103" h="3721">
                <a:moveTo>
                  <a:pt x="7193" y="9475"/>
                </a:moveTo>
                <a:cubicBezTo>
                  <a:pt x="7224" y="9674"/>
                  <a:pt x="7257" y="9871"/>
                  <a:pt x="7268" y="10071"/>
                </a:cubicBezTo>
              </a:path>
              <a:path w="6103" h="3721">
                <a:moveTo>
                  <a:pt x="7789" y="9327"/>
                </a:moveTo>
                <a:cubicBezTo>
                  <a:pt x="7713" y="9358"/>
                  <a:pt x="7587" y="9398"/>
                  <a:pt x="7541" y="9475"/>
                </a:cubicBezTo>
                <a:cubicBezTo>
                  <a:pt x="7514" y="9557"/>
                  <a:pt x="7503" y="9590"/>
                  <a:pt x="7491" y="9649"/>
                </a:cubicBezTo>
                <a:cubicBezTo>
                  <a:pt x="7655" y="9592"/>
                  <a:pt x="7723" y="9566"/>
                  <a:pt x="7888" y="9575"/>
                </a:cubicBezTo>
                <a:cubicBezTo>
                  <a:pt x="7850" y="9838"/>
                  <a:pt x="7782" y="9891"/>
                  <a:pt x="7541" y="9996"/>
                </a:cubicBezTo>
              </a:path>
              <a:path w="6103" h="3721">
                <a:moveTo>
                  <a:pt x="6598" y="10319"/>
                </a:moveTo>
                <a:cubicBezTo>
                  <a:pt x="6962" y="10255"/>
                  <a:pt x="7323" y="10198"/>
                  <a:pt x="7689" y="10145"/>
                </a:cubicBezTo>
                <a:cubicBezTo>
                  <a:pt x="7730" y="10137"/>
                  <a:pt x="7772" y="10128"/>
                  <a:pt x="7813" y="10120"/>
                </a:cubicBezTo>
              </a:path>
              <a:path w="6103" h="3721">
                <a:moveTo>
                  <a:pt x="6896" y="10443"/>
                </a:moveTo>
                <a:cubicBezTo>
                  <a:pt x="6978" y="10458"/>
                  <a:pt x="7134" y="10379"/>
                  <a:pt x="7193" y="10468"/>
                </a:cubicBezTo>
                <a:cubicBezTo>
                  <a:pt x="7325" y="10667"/>
                  <a:pt x="7065" y="10862"/>
                  <a:pt x="6896" y="10889"/>
                </a:cubicBezTo>
                <a:cubicBezTo>
                  <a:pt x="6848" y="10865"/>
                  <a:pt x="6831" y="10859"/>
                  <a:pt x="6846" y="10815"/>
                </a:cubicBezTo>
                <a:cubicBezTo>
                  <a:pt x="6977" y="10744"/>
                  <a:pt x="7105" y="10694"/>
                  <a:pt x="7193" y="10864"/>
                </a:cubicBezTo>
                <a:cubicBezTo>
                  <a:pt x="7193" y="10881"/>
                  <a:pt x="7193" y="10897"/>
                  <a:pt x="7193" y="10914"/>
                </a:cubicBezTo>
              </a:path>
              <a:path w="6103" h="3721">
                <a:moveTo>
                  <a:pt x="7516" y="10368"/>
                </a:moveTo>
                <a:cubicBezTo>
                  <a:pt x="7463" y="10409"/>
                  <a:pt x="7323" y="10440"/>
                  <a:pt x="7293" y="10492"/>
                </a:cubicBezTo>
                <a:cubicBezTo>
                  <a:pt x="7259" y="10551"/>
                  <a:pt x="7250" y="10626"/>
                  <a:pt x="7243" y="10691"/>
                </a:cubicBezTo>
                <a:cubicBezTo>
                  <a:pt x="7402" y="10619"/>
                  <a:pt x="7482" y="10589"/>
                  <a:pt x="7640" y="10641"/>
                </a:cubicBezTo>
                <a:cubicBezTo>
                  <a:pt x="7600" y="10908"/>
                  <a:pt x="7532" y="10917"/>
                  <a:pt x="7268" y="10939"/>
                </a:cubicBezTo>
              </a:path>
              <a:path w="6103" h="3721">
                <a:moveTo>
                  <a:pt x="8458" y="10195"/>
                </a:moveTo>
                <a:cubicBezTo>
                  <a:pt x="8569" y="10145"/>
                  <a:pt x="8703" y="10131"/>
                  <a:pt x="8830" y="10120"/>
                </a:cubicBezTo>
              </a:path>
              <a:path w="6103" h="3721">
                <a:moveTo>
                  <a:pt x="8508" y="10368"/>
                </a:moveTo>
                <a:cubicBezTo>
                  <a:pt x="8632" y="10318"/>
                  <a:pt x="8757" y="10271"/>
                  <a:pt x="8880" y="10220"/>
                </a:cubicBezTo>
              </a:path>
              <a:path w="6103" h="3721">
                <a:moveTo>
                  <a:pt x="10096" y="10145"/>
                </a:moveTo>
                <a:cubicBezTo>
                  <a:pt x="10270" y="10093"/>
                  <a:pt x="10496" y="10063"/>
                  <a:pt x="10319" y="10319"/>
                </a:cubicBezTo>
                <a:cubicBezTo>
                  <a:pt x="10286" y="10352"/>
                  <a:pt x="10253" y="10385"/>
                  <a:pt x="10220" y="10418"/>
                </a:cubicBezTo>
                <a:cubicBezTo>
                  <a:pt x="10326" y="10324"/>
                  <a:pt x="10572" y="10369"/>
                  <a:pt x="10418" y="10542"/>
                </a:cubicBezTo>
                <a:cubicBezTo>
                  <a:pt x="10302" y="10672"/>
                  <a:pt x="10170" y="10679"/>
                  <a:pt x="10046" y="10641"/>
                </a:cubicBezTo>
              </a:path>
              <a:path w="6103" h="3721">
                <a:moveTo>
                  <a:pt x="10641" y="10195"/>
                </a:moveTo>
                <a:cubicBezTo>
                  <a:pt x="10688" y="10335"/>
                  <a:pt x="10725" y="10429"/>
                  <a:pt x="10716" y="10567"/>
                </a:cubicBezTo>
              </a:path>
              <a:path w="6103" h="3721">
                <a:moveTo>
                  <a:pt x="10964" y="10071"/>
                </a:moveTo>
                <a:cubicBezTo>
                  <a:pt x="10849" y="10071"/>
                  <a:pt x="10828" y="10091"/>
                  <a:pt x="10790" y="10220"/>
                </a:cubicBezTo>
                <a:cubicBezTo>
                  <a:pt x="10790" y="10236"/>
                  <a:pt x="10790" y="10253"/>
                  <a:pt x="10790" y="10269"/>
                </a:cubicBezTo>
                <a:cubicBezTo>
                  <a:pt x="10908" y="10254"/>
                  <a:pt x="11116" y="10145"/>
                  <a:pt x="11212" y="10269"/>
                </a:cubicBezTo>
                <a:cubicBezTo>
                  <a:pt x="11354" y="10452"/>
                  <a:pt x="11085" y="10482"/>
                  <a:pt x="10988" y="10492"/>
                </a:cubicBezTo>
              </a:path>
              <a:path w="6103" h="3721">
                <a:moveTo>
                  <a:pt x="9823" y="10864"/>
                </a:moveTo>
                <a:cubicBezTo>
                  <a:pt x="9832" y="10598"/>
                  <a:pt x="9772" y="10341"/>
                  <a:pt x="9748" y="10071"/>
                </a:cubicBezTo>
                <a:cubicBezTo>
                  <a:pt x="9748" y="10046"/>
                  <a:pt x="9748" y="10021"/>
                  <a:pt x="9748" y="9996"/>
                </a:cubicBezTo>
                <a:cubicBezTo>
                  <a:pt x="9924" y="9959"/>
                  <a:pt x="10115" y="9917"/>
                  <a:pt x="10294" y="9897"/>
                </a:cubicBezTo>
                <a:cubicBezTo>
                  <a:pt x="10659" y="9857"/>
                  <a:pt x="11018" y="9788"/>
                  <a:pt x="11385" y="9773"/>
                </a:cubicBezTo>
              </a:path>
              <a:path w="6103" h="3721">
                <a:moveTo>
                  <a:pt x="8830" y="10393"/>
                </a:moveTo>
                <a:cubicBezTo>
                  <a:pt x="8855" y="10377"/>
                  <a:pt x="8880" y="10360"/>
                  <a:pt x="8905" y="10344"/>
                </a:cubicBezTo>
                <a:cubicBezTo>
                  <a:pt x="9022" y="10473"/>
                  <a:pt x="9040" y="10673"/>
                  <a:pt x="8880" y="10815"/>
                </a:cubicBezTo>
                <a:cubicBezTo>
                  <a:pt x="8782" y="10854"/>
                  <a:pt x="8768" y="10870"/>
                  <a:pt x="8706" y="10864"/>
                </a:cubicBezTo>
                <a:cubicBezTo>
                  <a:pt x="8749" y="10726"/>
                  <a:pt x="8878" y="10585"/>
                  <a:pt x="9054" y="10691"/>
                </a:cubicBezTo>
                <a:cubicBezTo>
                  <a:pt x="9097" y="10756"/>
                  <a:pt x="9108" y="10771"/>
                  <a:pt x="9128" y="10815"/>
                </a:cubicBezTo>
              </a:path>
              <a:path w="6103" h="3721">
                <a:moveTo>
                  <a:pt x="9252" y="10294"/>
                </a:moveTo>
                <a:cubicBezTo>
                  <a:pt x="9221" y="10341"/>
                  <a:pt x="9159" y="10296"/>
                  <a:pt x="9128" y="10344"/>
                </a:cubicBezTo>
                <a:cubicBezTo>
                  <a:pt x="9092" y="10434"/>
                  <a:pt x="9076" y="10439"/>
                  <a:pt x="9079" y="10492"/>
                </a:cubicBezTo>
                <a:cubicBezTo>
                  <a:pt x="9220" y="10406"/>
                  <a:pt x="9436" y="10263"/>
                  <a:pt x="9451" y="10542"/>
                </a:cubicBezTo>
                <a:cubicBezTo>
                  <a:pt x="9462" y="10747"/>
                  <a:pt x="9259" y="10731"/>
                  <a:pt x="9128" y="10716"/>
                </a:cubicBezTo>
              </a:path>
              <a:path w="6103" h="3721">
                <a:moveTo>
                  <a:pt x="10368" y="9351"/>
                </a:moveTo>
                <a:cubicBezTo>
                  <a:pt x="10368" y="9283"/>
                  <a:pt x="10389" y="9593"/>
                  <a:pt x="10393" y="9624"/>
                </a:cubicBezTo>
                <a:cubicBezTo>
                  <a:pt x="10393" y="9632"/>
                  <a:pt x="10393" y="9641"/>
                  <a:pt x="10393" y="9649"/>
                </a:cubicBezTo>
              </a:path>
              <a:path w="6103" h="3721">
                <a:moveTo>
                  <a:pt x="10294" y="10864"/>
                </a:moveTo>
                <a:cubicBezTo>
                  <a:pt x="10294" y="10789"/>
                  <a:pt x="10319" y="10768"/>
                  <a:pt x="10418" y="10790"/>
                </a:cubicBezTo>
                <a:cubicBezTo>
                  <a:pt x="10493" y="10963"/>
                  <a:pt x="10486" y="11069"/>
                  <a:pt x="10294" y="11162"/>
                </a:cubicBezTo>
                <a:cubicBezTo>
                  <a:pt x="10181" y="11217"/>
                  <a:pt x="10181" y="11192"/>
                  <a:pt x="10170" y="11112"/>
                </a:cubicBezTo>
                <a:cubicBezTo>
                  <a:pt x="10281" y="11002"/>
                  <a:pt x="10369" y="10976"/>
                  <a:pt x="10517" y="11063"/>
                </a:cubicBezTo>
                <a:cubicBezTo>
                  <a:pt x="10525" y="11071"/>
                  <a:pt x="10534" y="11080"/>
                  <a:pt x="10542" y="11088"/>
                </a:cubicBezTo>
              </a:path>
              <a:path w="6103" h="3721">
                <a:moveTo>
                  <a:pt x="10765" y="10666"/>
                </a:moveTo>
                <a:cubicBezTo>
                  <a:pt x="10739" y="10677"/>
                  <a:pt x="10629" y="10729"/>
                  <a:pt x="10616" y="10765"/>
                </a:cubicBezTo>
                <a:cubicBezTo>
                  <a:pt x="10616" y="10823"/>
                  <a:pt x="10616" y="10848"/>
                  <a:pt x="10616" y="10889"/>
                </a:cubicBezTo>
                <a:cubicBezTo>
                  <a:pt x="10694" y="10867"/>
                  <a:pt x="10803" y="10781"/>
                  <a:pt x="10864" y="10889"/>
                </a:cubicBezTo>
                <a:cubicBezTo>
                  <a:pt x="10919" y="10987"/>
                  <a:pt x="10718" y="11056"/>
                  <a:pt x="10666" y="11088"/>
                </a:cubicBezTo>
              </a:path>
              <a:path w="6103" h="3721">
                <a:moveTo>
                  <a:pt x="10021" y="11286"/>
                </a:moveTo>
                <a:cubicBezTo>
                  <a:pt x="10202" y="11186"/>
                  <a:pt x="10390" y="11198"/>
                  <a:pt x="10592" y="11162"/>
                </a:cubicBezTo>
                <a:cubicBezTo>
                  <a:pt x="10724" y="11138"/>
                  <a:pt x="10863" y="11109"/>
                  <a:pt x="10988" y="11063"/>
                </a:cubicBezTo>
              </a:path>
              <a:path w="6103" h="3721">
                <a:moveTo>
                  <a:pt x="9748" y="10939"/>
                </a:moveTo>
                <a:cubicBezTo>
                  <a:pt x="9824" y="10939"/>
                  <a:pt x="9870" y="10929"/>
                  <a:pt x="9947" y="10914"/>
                </a:cubicBezTo>
              </a:path>
              <a:path w="6103" h="3721">
                <a:moveTo>
                  <a:pt x="10840" y="11361"/>
                </a:moveTo>
                <a:cubicBezTo>
                  <a:pt x="10762" y="11485"/>
                  <a:pt x="10740" y="11540"/>
                  <a:pt x="10740" y="11683"/>
                </a:cubicBezTo>
                <a:cubicBezTo>
                  <a:pt x="10884" y="11674"/>
                  <a:pt x="10957" y="11661"/>
                  <a:pt x="11063" y="11559"/>
                </a:cubicBezTo>
                <a:cubicBezTo>
                  <a:pt x="11112" y="11512"/>
                  <a:pt x="11126" y="11463"/>
                  <a:pt x="11162" y="11410"/>
                </a:cubicBezTo>
                <a:cubicBezTo>
                  <a:pt x="11011" y="11382"/>
                  <a:pt x="11024" y="11438"/>
                  <a:pt x="11013" y="11584"/>
                </a:cubicBezTo>
              </a:path>
              <a:path w="6103" h="3721">
                <a:moveTo>
                  <a:pt x="11162" y="10740"/>
                </a:moveTo>
                <a:cubicBezTo>
                  <a:pt x="11177" y="10843"/>
                  <a:pt x="11207" y="10936"/>
                  <a:pt x="11237" y="11038"/>
                </a:cubicBezTo>
              </a:path>
              <a:path w="6103" h="3721">
                <a:moveTo>
                  <a:pt x="11509" y="11162"/>
                </a:moveTo>
                <a:cubicBezTo>
                  <a:pt x="11409" y="11173"/>
                  <a:pt x="11311" y="11157"/>
                  <a:pt x="11311" y="11286"/>
                </a:cubicBezTo>
                <a:cubicBezTo>
                  <a:pt x="11319" y="11294"/>
                  <a:pt x="11328" y="11303"/>
                  <a:pt x="11336" y="11311"/>
                </a:cubicBezTo>
                <a:cubicBezTo>
                  <a:pt x="11416" y="11299"/>
                  <a:pt x="11520" y="11223"/>
                  <a:pt x="11609" y="11261"/>
                </a:cubicBezTo>
                <a:cubicBezTo>
                  <a:pt x="11667" y="11286"/>
                  <a:pt x="11677" y="11460"/>
                  <a:pt x="11609" y="11485"/>
                </a:cubicBezTo>
                <a:cubicBezTo>
                  <a:pt x="11568" y="11493"/>
                  <a:pt x="11526" y="11501"/>
                  <a:pt x="11485" y="11509"/>
                </a:cubicBezTo>
              </a:path>
              <a:path w="6103" h="3721">
                <a:moveTo>
                  <a:pt x="10716" y="9227"/>
                </a:moveTo>
                <a:cubicBezTo>
                  <a:pt x="10646" y="9415"/>
                  <a:pt x="10714" y="9226"/>
                  <a:pt x="10765" y="9203"/>
                </a:cubicBezTo>
                <a:cubicBezTo>
                  <a:pt x="10790" y="9203"/>
                  <a:pt x="10815" y="9203"/>
                  <a:pt x="10840" y="9203"/>
                </a:cubicBezTo>
                <a:cubicBezTo>
                  <a:pt x="10960" y="9367"/>
                  <a:pt x="11013" y="9484"/>
                  <a:pt x="10790" y="9599"/>
                </a:cubicBezTo>
                <a:cubicBezTo>
                  <a:pt x="10757" y="9607"/>
                  <a:pt x="10724" y="9616"/>
                  <a:pt x="10691" y="9624"/>
                </a:cubicBezTo>
                <a:cubicBezTo>
                  <a:pt x="10726" y="9482"/>
                  <a:pt x="10823" y="9402"/>
                  <a:pt x="10988" y="9475"/>
                </a:cubicBezTo>
                <a:cubicBezTo>
                  <a:pt x="11005" y="9492"/>
                  <a:pt x="11021" y="9508"/>
                  <a:pt x="11038" y="9525"/>
                </a:cubicBezTo>
              </a:path>
              <a:path w="6103" h="3721">
                <a:moveTo>
                  <a:pt x="11038" y="11956"/>
                </a:moveTo>
                <a:cubicBezTo>
                  <a:pt x="10967" y="11956"/>
                  <a:pt x="10910" y="11965"/>
                  <a:pt x="10889" y="12055"/>
                </a:cubicBezTo>
                <a:cubicBezTo>
                  <a:pt x="10889" y="12129"/>
                  <a:pt x="10889" y="12138"/>
                  <a:pt x="10889" y="12179"/>
                </a:cubicBezTo>
                <a:cubicBezTo>
                  <a:pt x="10981" y="12179"/>
                  <a:pt x="11102" y="12124"/>
                  <a:pt x="11187" y="12154"/>
                </a:cubicBezTo>
                <a:cubicBezTo>
                  <a:pt x="11204" y="12171"/>
                  <a:pt x="11220" y="12187"/>
                  <a:pt x="11237" y="12204"/>
                </a:cubicBezTo>
                <a:cubicBezTo>
                  <a:pt x="11114" y="12339"/>
                  <a:pt x="11056" y="12350"/>
                  <a:pt x="10889" y="12278"/>
                </a:cubicBezTo>
              </a:path>
              <a:path w="6103" h="3721">
                <a:moveTo>
                  <a:pt x="11559" y="11881"/>
                </a:moveTo>
                <a:cubicBezTo>
                  <a:pt x="11436" y="11955"/>
                  <a:pt x="11472" y="12075"/>
                  <a:pt x="11485" y="12204"/>
                </a:cubicBezTo>
                <a:cubicBezTo>
                  <a:pt x="11550" y="12190"/>
                  <a:pt x="11858" y="12084"/>
                  <a:pt x="11708" y="11956"/>
                </a:cubicBezTo>
                <a:cubicBezTo>
                  <a:pt x="11675" y="11948"/>
                  <a:pt x="11642" y="11939"/>
                  <a:pt x="11609" y="11931"/>
                </a:cubicBezTo>
              </a:path>
              <a:path w="6103" h="3721">
                <a:moveTo>
                  <a:pt x="10691" y="12402"/>
                </a:moveTo>
                <a:cubicBezTo>
                  <a:pt x="11002" y="12306"/>
                  <a:pt x="11312" y="12238"/>
                  <a:pt x="11633" y="12179"/>
                </a:cubicBezTo>
                <a:cubicBezTo>
                  <a:pt x="11683" y="12171"/>
                  <a:pt x="11732" y="12162"/>
                  <a:pt x="11782" y="12154"/>
                </a:cubicBezTo>
              </a:path>
              <a:path w="6103" h="3721">
                <a:moveTo>
                  <a:pt x="11212" y="12551"/>
                </a:moveTo>
                <a:cubicBezTo>
                  <a:pt x="11212" y="12676"/>
                  <a:pt x="11228" y="12815"/>
                  <a:pt x="11187" y="12923"/>
                </a:cubicBezTo>
              </a:path>
              <a:path w="6103" h="3721">
                <a:moveTo>
                  <a:pt x="11782" y="12378"/>
                </a:moveTo>
                <a:cubicBezTo>
                  <a:pt x="11694" y="12488"/>
                  <a:pt x="11628" y="12434"/>
                  <a:pt x="11534" y="12502"/>
                </a:cubicBezTo>
                <a:cubicBezTo>
                  <a:pt x="11482" y="12540"/>
                  <a:pt x="11490" y="12644"/>
                  <a:pt x="11485" y="12700"/>
                </a:cubicBezTo>
                <a:cubicBezTo>
                  <a:pt x="11625" y="12653"/>
                  <a:pt x="11684" y="12617"/>
                  <a:pt x="11832" y="12650"/>
                </a:cubicBezTo>
                <a:cubicBezTo>
                  <a:pt x="11802" y="12827"/>
                  <a:pt x="11725" y="12846"/>
                  <a:pt x="11559" y="1289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7800" y="3160800"/>
            <a:ext cx="2340000" cy="669960"/>
          </a:xfrm>
          <a:custGeom>
            <a:avLst/>
            <a:gdLst/>
            <a:ahLst/>
            <a:rect l="l" t="t" r="r" b="b"/>
            <a:pathLst>
              <a:path w="6500" h="1861">
                <a:moveTo>
                  <a:pt x="12105" y="9971"/>
                </a:moveTo>
                <a:cubicBezTo>
                  <a:pt x="12224" y="9995"/>
                  <a:pt x="12307" y="9991"/>
                  <a:pt x="12427" y="9971"/>
                </a:cubicBezTo>
              </a:path>
              <a:path w="6500" h="1861">
                <a:moveTo>
                  <a:pt x="12105" y="10195"/>
                </a:moveTo>
                <a:cubicBezTo>
                  <a:pt x="12225" y="10183"/>
                  <a:pt x="12334" y="10161"/>
                  <a:pt x="12452" y="10145"/>
                </a:cubicBezTo>
              </a:path>
              <a:path w="6500" h="1861">
                <a:moveTo>
                  <a:pt x="12948" y="9798"/>
                </a:moveTo>
                <a:cubicBezTo>
                  <a:pt x="12948" y="9790"/>
                  <a:pt x="12948" y="9781"/>
                  <a:pt x="12948" y="9773"/>
                </a:cubicBezTo>
              </a:path>
              <a:path w="6500" h="1861">
                <a:moveTo>
                  <a:pt x="13295" y="9674"/>
                </a:moveTo>
                <a:cubicBezTo>
                  <a:pt x="13435" y="9583"/>
                  <a:pt x="13445" y="9557"/>
                  <a:pt x="13593" y="9599"/>
                </a:cubicBezTo>
                <a:cubicBezTo>
                  <a:pt x="13617" y="9777"/>
                  <a:pt x="13541" y="9895"/>
                  <a:pt x="13519" y="10071"/>
                </a:cubicBezTo>
                <a:cubicBezTo>
                  <a:pt x="13503" y="10201"/>
                  <a:pt x="13528" y="10237"/>
                  <a:pt x="13444" y="10344"/>
                </a:cubicBezTo>
                <a:cubicBezTo>
                  <a:pt x="13469" y="10192"/>
                  <a:pt x="13507" y="10142"/>
                  <a:pt x="13667" y="10170"/>
                </a:cubicBezTo>
                <a:cubicBezTo>
                  <a:pt x="13806" y="10194"/>
                  <a:pt x="13866" y="10178"/>
                  <a:pt x="13990" y="10120"/>
                </a:cubicBezTo>
              </a:path>
              <a:path w="6500" h="1861">
                <a:moveTo>
                  <a:pt x="12973" y="9971"/>
                </a:moveTo>
                <a:cubicBezTo>
                  <a:pt x="12998" y="9897"/>
                  <a:pt x="13013" y="9825"/>
                  <a:pt x="13022" y="9748"/>
                </a:cubicBezTo>
                <a:cubicBezTo>
                  <a:pt x="13052" y="9971"/>
                  <a:pt x="13070" y="10144"/>
                  <a:pt x="13047" y="10368"/>
                </a:cubicBezTo>
                <a:cubicBezTo>
                  <a:pt x="13047" y="10376"/>
                  <a:pt x="13047" y="10385"/>
                  <a:pt x="13047" y="10393"/>
                </a:cubicBezTo>
              </a:path>
              <a:path w="6500" h="1861">
                <a:moveTo>
                  <a:pt x="13990" y="9128"/>
                </a:moveTo>
                <a:cubicBezTo>
                  <a:pt x="14012" y="9230"/>
                  <a:pt x="14015" y="9320"/>
                  <a:pt x="14015" y="9426"/>
                </a:cubicBezTo>
              </a:path>
              <a:path w="6500" h="1861">
                <a:moveTo>
                  <a:pt x="14114" y="9178"/>
                </a:moveTo>
                <a:cubicBezTo>
                  <a:pt x="14184" y="9195"/>
                  <a:pt x="14412" y="9211"/>
                  <a:pt x="14337" y="9351"/>
                </a:cubicBezTo>
                <a:cubicBezTo>
                  <a:pt x="14312" y="9376"/>
                  <a:pt x="14288" y="9401"/>
                  <a:pt x="14263" y="9426"/>
                </a:cubicBezTo>
              </a:path>
              <a:path w="6500" h="1861">
                <a:moveTo>
                  <a:pt x="14114" y="9128"/>
                </a:moveTo>
                <a:cubicBezTo>
                  <a:pt x="14207" y="9089"/>
                  <a:pt x="14293" y="9048"/>
                  <a:pt x="14387" y="9029"/>
                </a:cubicBezTo>
              </a:path>
              <a:path w="6500" h="1861">
                <a:moveTo>
                  <a:pt x="14039" y="9699"/>
                </a:moveTo>
                <a:cubicBezTo>
                  <a:pt x="14154" y="9667"/>
                  <a:pt x="14273" y="9619"/>
                  <a:pt x="14387" y="9575"/>
                </a:cubicBezTo>
              </a:path>
              <a:path w="6500" h="1861">
                <a:moveTo>
                  <a:pt x="14064" y="9872"/>
                </a:moveTo>
                <a:cubicBezTo>
                  <a:pt x="14163" y="9865"/>
                  <a:pt x="14242" y="9858"/>
                  <a:pt x="14337" y="9872"/>
                </a:cubicBezTo>
                <a:cubicBezTo>
                  <a:pt x="14360" y="10054"/>
                  <a:pt x="14336" y="10125"/>
                  <a:pt x="14139" y="10170"/>
                </a:cubicBezTo>
                <a:cubicBezTo>
                  <a:pt x="14122" y="10170"/>
                  <a:pt x="14106" y="10170"/>
                  <a:pt x="14089" y="10170"/>
                </a:cubicBezTo>
                <a:cubicBezTo>
                  <a:pt x="14168" y="10040"/>
                  <a:pt x="14225" y="10057"/>
                  <a:pt x="14362" y="10120"/>
                </a:cubicBezTo>
              </a:path>
              <a:path w="6500" h="1861">
                <a:moveTo>
                  <a:pt x="14585" y="9699"/>
                </a:moveTo>
                <a:cubicBezTo>
                  <a:pt x="14493" y="9712"/>
                  <a:pt x="14475" y="9738"/>
                  <a:pt x="14486" y="9823"/>
                </a:cubicBezTo>
                <a:cubicBezTo>
                  <a:pt x="14554" y="9837"/>
                  <a:pt x="14629" y="9800"/>
                  <a:pt x="14684" y="9847"/>
                </a:cubicBezTo>
                <a:cubicBezTo>
                  <a:pt x="14840" y="9982"/>
                  <a:pt x="14597" y="10079"/>
                  <a:pt x="14486" y="10096"/>
                </a:cubicBezTo>
                <a:cubicBezTo>
                  <a:pt x="14453" y="10096"/>
                  <a:pt x="14420" y="10096"/>
                  <a:pt x="14387" y="10096"/>
                </a:cubicBezTo>
              </a:path>
              <a:path w="6500" h="1861">
                <a:moveTo>
                  <a:pt x="14511" y="9103"/>
                </a:moveTo>
                <a:cubicBezTo>
                  <a:pt x="14641" y="9117"/>
                  <a:pt x="14684" y="9116"/>
                  <a:pt x="14808" y="9079"/>
                </a:cubicBezTo>
              </a:path>
              <a:path w="6500" h="1861">
                <a:moveTo>
                  <a:pt x="14660" y="8979"/>
                </a:moveTo>
                <a:lnTo>
                  <a:pt x="14660" y="8979"/>
                </a:lnTo>
              </a:path>
              <a:path w="6500" h="1861">
                <a:moveTo>
                  <a:pt x="14808" y="9227"/>
                </a:moveTo>
                <a:lnTo>
                  <a:pt x="14808" y="9227"/>
                </a:lnTo>
              </a:path>
              <a:path w="6500" h="1861">
                <a:moveTo>
                  <a:pt x="15007" y="9748"/>
                </a:moveTo>
                <a:cubicBezTo>
                  <a:pt x="15067" y="9740"/>
                  <a:pt x="15085" y="9730"/>
                  <a:pt x="15131" y="9748"/>
                </a:cubicBezTo>
              </a:path>
              <a:path w="6500" h="1861">
                <a:moveTo>
                  <a:pt x="15007" y="9550"/>
                </a:moveTo>
                <a:lnTo>
                  <a:pt x="15007" y="9550"/>
                </a:lnTo>
              </a:path>
              <a:path w="6500" h="1861">
                <a:moveTo>
                  <a:pt x="15056" y="9947"/>
                </a:moveTo>
                <a:lnTo>
                  <a:pt x="15056" y="9947"/>
                </a:lnTo>
              </a:path>
              <a:path w="6500" h="1861">
                <a:moveTo>
                  <a:pt x="15131" y="9004"/>
                </a:moveTo>
                <a:cubicBezTo>
                  <a:pt x="15131" y="9021"/>
                  <a:pt x="15131" y="9037"/>
                  <a:pt x="15131" y="9054"/>
                </a:cubicBezTo>
                <a:cubicBezTo>
                  <a:pt x="15284" y="9065"/>
                  <a:pt x="15306" y="9064"/>
                  <a:pt x="15230" y="9203"/>
                </a:cubicBezTo>
              </a:path>
              <a:path w="6500" h="1861">
                <a:moveTo>
                  <a:pt x="15081" y="9004"/>
                </a:moveTo>
                <a:cubicBezTo>
                  <a:pt x="15170" y="8959"/>
                  <a:pt x="15193" y="8945"/>
                  <a:pt x="15255" y="8930"/>
                </a:cubicBezTo>
              </a:path>
              <a:path w="6500" h="1861">
                <a:moveTo>
                  <a:pt x="15280" y="9823"/>
                </a:moveTo>
                <a:cubicBezTo>
                  <a:pt x="15280" y="9996"/>
                  <a:pt x="15336" y="9947"/>
                  <a:pt x="15503" y="9947"/>
                </a:cubicBezTo>
                <a:cubicBezTo>
                  <a:pt x="15495" y="9980"/>
                  <a:pt x="15486" y="10013"/>
                  <a:pt x="15478" y="10046"/>
                </a:cubicBezTo>
              </a:path>
              <a:path w="6500" h="1861">
                <a:moveTo>
                  <a:pt x="15255" y="9798"/>
                </a:moveTo>
                <a:cubicBezTo>
                  <a:pt x="15372" y="9751"/>
                  <a:pt x="15406" y="9738"/>
                  <a:pt x="15478" y="9699"/>
                </a:cubicBezTo>
              </a:path>
              <a:path w="6500" h="1861">
                <a:moveTo>
                  <a:pt x="15677" y="9475"/>
                </a:moveTo>
                <a:cubicBezTo>
                  <a:pt x="15710" y="9467"/>
                  <a:pt x="15743" y="9459"/>
                  <a:pt x="15776" y="9451"/>
                </a:cubicBezTo>
              </a:path>
              <a:path w="6500" h="1861">
                <a:moveTo>
                  <a:pt x="15825" y="9699"/>
                </a:moveTo>
                <a:lnTo>
                  <a:pt x="15825" y="9699"/>
                </a:lnTo>
              </a:path>
              <a:path w="6500" h="1861">
                <a:moveTo>
                  <a:pt x="16545" y="9500"/>
                </a:moveTo>
                <a:cubicBezTo>
                  <a:pt x="16650" y="9764"/>
                  <a:pt x="16696" y="10014"/>
                  <a:pt x="16743" y="10294"/>
                </a:cubicBezTo>
              </a:path>
              <a:path w="6500" h="1861">
                <a:moveTo>
                  <a:pt x="16917" y="9475"/>
                </a:moveTo>
                <a:cubicBezTo>
                  <a:pt x="17173" y="9464"/>
                  <a:pt x="17387" y="9546"/>
                  <a:pt x="17264" y="9872"/>
                </a:cubicBezTo>
                <a:cubicBezTo>
                  <a:pt x="17205" y="10027"/>
                  <a:pt x="17097" y="10105"/>
                  <a:pt x="16966" y="10145"/>
                </a:cubicBezTo>
                <a:cubicBezTo>
                  <a:pt x="17044" y="9912"/>
                  <a:pt x="17174" y="9952"/>
                  <a:pt x="17388" y="10046"/>
                </a:cubicBezTo>
                <a:cubicBezTo>
                  <a:pt x="17405" y="10054"/>
                  <a:pt x="17421" y="10063"/>
                  <a:pt x="17438" y="10071"/>
                </a:cubicBezTo>
              </a:path>
              <a:path w="6500" h="1861">
                <a:moveTo>
                  <a:pt x="17462" y="9079"/>
                </a:moveTo>
                <a:cubicBezTo>
                  <a:pt x="17611" y="9023"/>
                  <a:pt x="17805" y="9010"/>
                  <a:pt x="17711" y="9252"/>
                </a:cubicBezTo>
                <a:cubicBezTo>
                  <a:pt x="17640" y="9345"/>
                  <a:pt x="17623" y="9376"/>
                  <a:pt x="17537" y="9376"/>
                </a:cubicBezTo>
                <a:cubicBezTo>
                  <a:pt x="17577" y="9346"/>
                  <a:pt x="17817" y="9316"/>
                  <a:pt x="17711" y="9426"/>
                </a:cubicBezTo>
                <a:cubicBezTo>
                  <a:pt x="17583" y="9502"/>
                  <a:pt x="17538" y="9528"/>
                  <a:pt x="17438" y="9550"/>
                </a:cubicBezTo>
              </a:path>
              <a:path w="6500" h="1861">
                <a:moveTo>
                  <a:pt x="17587" y="9649"/>
                </a:moveTo>
                <a:cubicBezTo>
                  <a:pt x="17833" y="9560"/>
                  <a:pt x="17896" y="9533"/>
                  <a:pt x="18058" y="9500"/>
                </a:cubicBezTo>
              </a:path>
              <a:path w="6500" h="1861">
                <a:moveTo>
                  <a:pt x="17735" y="9872"/>
                </a:moveTo>
                <a:cubicBezTo>
                  <a:pt x="17596" y="9930"/>
                  <a:pt x="17637" y="9904"/>
                  <a:pt x="17661" y="10046"/>
                </a:cubicBezTo>
                <a:cubicBezTo>
                  <a:pt x="17816" y="10009"/>
                  <a:pt x="17856" y="10008"/>
                  <a:pt x="18008" y="10046"/>
                </a:cubicBezTo>
                <a:cubicBezTo>
                  <a:pt x="17977" y="10169"/>
                  <a:pt x="17951" y="10219"/>
                  <a:pt x="17859" y="10269"/>
                </a:cubicBezTo>
              </a:path>
              <a:path w="6500" h="1861">
                <a:moveTo>
                  <a:pt x="16321" y="10468"/>
                </a:moveTo>
                <a:cubicBezTo>
                  <a:pt x="16707" y="10612"/>
                  <a:pt x="17045" y="10670"/>
                  <a:pt x="17462" y="10616"/>
                </a:cubicBezTo>
                <a:cubicBezTo>
                  <a:pt x="17895" y="10560"/>
                  <a:pt x="18406" y="10417"/>
                  <a:pt x="18554" y="9947"/>
                </a:cubicBezTo>
                <a:cubicBezTo>
                  <a:pt x="18697" y="9491"/>
                  <a:pt x="18539" y="8987"/>
                  <a:pt x="18058" y="8830"/>
                </a:cubicBezTo>
                <a:cubicBezTo>
                  <a:pt x="17490" y="8644"/>
                  <a:pt x="16895" y="8939"/>
                  <a:pt x="16396" y="9178"/>
                </a:cubicBezTo>
                <a:cubicBezTo>
                  <a:pt x="15920" y="9406"/>
                  <a:pt x="15859" y="9987"/>
                  <a:pt x="16272" y="10368"/>
                </a:cubicBezTo>
                <a:cubicBezTo>
                  <a:pt x="16396" y="10426"/>
                  <a:pt x="16520" y="10484"/>
                  <a:pt x="16644" y="1054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3120" y="4697280"/>
            <a:ext cx="295200" cy="830520"/>
          </a:xfrm>
          <a:custGeom>
            <a:avLst/>
            <a:gdLst/>
            <a:ahLst/>
            <a:rect l="l" t="t" r="r" b="b"/>
            <a:pathLst>
              <a:path w="820" h="2308">
                <a:moveTo>
                  <a:pt x="843" y="13221"/>
                </a:moveTo>
                <a:cubicBezTo>
                  <a:pt x="843" y="13378"/>
                  <a:pt x="843" y="13535"/>
                  <a:pt x="843" y="13692"/>
                </a:cubicBezTo>
              </a:path>
              <a:path w="820" h="2308">
                <a:moveTo>
                  <a:pt x="1215" y="13047"/>
                </a:moveTo>
                <a:cubicBezTo>
                  <a:pt x="1197" y="13049"/>
                  <a:pt x="1045" y="13088"/>
                  <a:pt x="1042" y="13097"/>
                </a:cubicBezTo>
                <a:cubicBezTo>
                  <a:pt x="986" y="13265"/>
                  <a:pt x="1096" y="13236"/>
                  <a:pt x="1191" y="13196"/>
                </a:cubicBezTo>
                <a:cubicBezTo>
                  <a:pt x="1234" y="13174"/>
                  <a:pt x="1246" y="13161"/>
                  <a:pt x="1265" y="13196"/>
                </a:cubicBezTo>
                <a:cubicBezTo>
                  <a:pt x="1247" y="13284"/>
                  <a:pt x="1217" y="13383"/>
                  <a:pt x="1141" y="13444"/>
                </a:cubicBezTo>
                <a:cubicBezTo>
                  <a:pt x="1082" y="13484"/>
                  <a:pt x="1070" y="13488"/>
                  <a:pt x="1042" y="13519"/>
                </a:cubicBezTo>
              </a:path>
              <a:path w="820" h="2308">
                <a:moveTo>
                  <a:pt x="943" y="14064"/>
                </a:moveTo>
                <a:cubicBezTo>
                  <a:pt x="972" y="14147"/>
                  <a:pt x="1001" y="14227"/>
                  <a:pt x="1017" y="14312"/>
                </a:cubicBezTo>
              </a:path>
              <a:path w="820" h="2308">
                <a:moveTo>
                  <a:pt x="918" y="14288"/>
                </a:moveTo>
                <a:cubicBezTo>
                  <a:pt x="1009" y="14197"/>
                  <a:pt x="1033" y="14172"/>
                  <a:pt x="1091" y="14114"/>
                </a:cubicBezTo>
              </a:path>
              <a:path w="820" h="2308">
                <a:moveTo>
                  <a:pt x="1215" y="13717"/>
                </a:moveTo>
                <a:cubicBezTo>
                  <a:pt x="1215" y="13672"/>
                  <a:pt x="1211" y="13659"/>
                  <a:pt x="1240" y="13643"/>
                </a:cubicBezTo>
                <a:cubicBezTo>
                  <a:pt x="1389" y="13717"/>
                  <a:pt x="1353" y="13886"/>
                  <a:pt x="1290" y="14039"/>
                </a:cubicBezTo>
                <a:cubicBezTo>
                  <a:pt x="1273" y="14064"/>
                  <a:pt x="1257" y="14089"/>
                  <a:pt x="1240" y="14114"/>
                </a:cubicBezTo>
                <a:cubicBezTo>
                  <a:pt x="1327" y="14079"/>
                  <a:pt x="1410" y="14045"/>
                  <a:pt x="1488" y="14015"/>
                </a:cubicBezTo>
                <a:cubicBezTo>
                  <a:pt x="1505" y="14007"/>
                  <a:pt x="1521" y="13998"/>
                  <a:pt x="1538" y="13990"/>
                </a:cubicBezTo>
              </a:path>
              <a:path w="820" h="2308">
                <a:moveTo>
                  <a:pt x="893" y="14734"/>
                </a:moveTo>
                <a:cubicBezTo>
                  <a:pt x="963" y="14557"/>
                  <a:pt x="1179" y="14474"/>
                  <a:pt x="1339" y="14362"/>
                </a:cubicBezTo>
                <a:cubicBezTo>
                  <a:pt x="1489" y="14255"/>
                  <a:pt x="1523" y="14232"/>
                  <a:pt x="1612" y="14163"/>
                </a:cubicBezTo>
              </a:path>
              <a:path w="820" h="2308">
                <a:moveTo>
                  <a:pt x="1265" y="14883"/>
                </a:moveTo>
                <a:cubicBezTo>
                  <a:pt x="1190" y="14957"/>
                  <a:pt x="1284" y="15149"/>
                  <a:pt x="1265" y="15304"/>
                </a:cubicBezTo>
                <a:cubicBezTo>
                  <a:pt x="1257" y="15321"/>
                  <a:pt x="1248" y="15337"/>
                  <a:pt x="1240" y="15354"/>
                </a:cubicBezTo>
              </a:path>
              <a:path w="820" h="2308">
                <a:moveTo>
                  <a:pt x="1339" y="14808"/>
                </a:moveTo>
                <a:cubicBezTo>
                  <a:pt x="1412" y="14724"/>
                  <a:pt x="1487" y="14625"/>
                  <a:pt x="1588" y="14585"/>
                </a:cubicBezTo>
                <a:cubicBezTo>
                  <a:pt x="1652" y="14785"/>
                  <a:pt x="1662" y="14919"/>
                  <a:pt x="1662" y="1513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4384800"/>
            <a:ext cx="3125880" cy="1411200"/>
          </a:xfrm>
          <a:custGeom>
            <a:avLst/>
            <a:gdLst/>
            <a:ahLst/>
            <a:rect l="l" t="t" r="r" b="b"/>
            <a:pathLst>
              <a:path w="8683" h="3920">
                <a:moveTo>
                  <a:pt x="2853" y="13022"/>
                </a:moveTo>
                <a:cubicBezTo>
                  <a:pt x="2845" y="13022"/>
                  <a:pt x="2836" y="13022"/>
                  <a:pt x="2828" y="13022"/>
                </a:cubicBezTo>
                <a:cubicBezTo>
                  <a:pt x="2876" y="13070"/>
                  <a:pt x="2911" y="13120"/>
                  <a:pt x="2952" y="13171"/>
                </a:cubicBezTo>
              </a:path>
              <a:path w="8683" h="3920">
                <a:moveTo>
                  <a:pt x="2952" y="12998"/>
                </a:moveTo>
                <a:cubicBezTo>
                  <a:pt x="2921" y="13058"/>
                  <a:pt x="2890" y="13134"/>
                  <a:pt x="2853" y="13196"/>
                </a:cubicBezTo>
                <a:cubicBezTo>
                  <a:pt x="2823" y="13246"/>
                  <a:pt x="2811" y="13259"/>
                  <a:pt x="2803" y="13320"/>
                </a:cubicBezTo>
              </a:path>
              <a:path w="8683" h="3920">
                <a:moveTo>
                  <a:pt x="2927" y="14089"/>
                </a:moveTo>
                <a:cubicBezTo>
                  <a:pt x="2927" y="14272"/>
                  <a:pt x="2906" y="14452"/>
                  <a:pt x="2902" y="14635"/>
                </a:cubicBezTo>
                <a:cubicBezTo>
                  <a:pt x="2902" y="14660"/>
                  <a:pt x="2902" y="14684"/>
                  <a:pt x="2902" y="14709"/>
                </a:cubicBezTo>
              </a:path>
              <a:path w="8683" h="3920">
                <a:moveTo>
                  <a:pt x="3175" y="14114"/>
                </a:moveTo>
                <a:cubicBezTo>
                  <a:pt x="3329" y="14150"/>
                  <a:pt x="3442" y="14171"/>
                  <a:pt x="3597" y="14139"/>
                </a:cubicBezTo>
                <a:cubicBezTo>
                  <a:pt x="3538" y="14362"/>
                  <a:pt x="3468" y="14596"/>
                  <a:pt x="3373" y="14808"/>
                </a:cubicBezTo>
                <a:cubicBezTo>
                  <a:pt x="3365" y="14816"/>
                  <a:pt x="3357" y="14825"/>
                  <a:pt x="3349" y="14833"/>
                </a:cubicBezTo>
              </a:path>
              <a:path w="8683" h="3920">
                <a:moveTo>
                  <a:pt x="2530" y="15106"/>
                </a:moveTo>
                <a:cubicBezTo>
                  <a:pt x="2828" y="15129"/>
                  <a:pt x="3122" y="15131"/>
                  <a:pt x="3423" y="15131"/>
                </a:cubicBezTo>
                <a:cubicBezTo>
                  <a:pt x="3564" y="15131"/>
                  <a:pt x="3704" y="15131"/>
                  <a:pt x="3845" y="15131"/>
                </a:cubicBezTo>
              </a:path>
              <a:path w="8683" h="3920">
                <a:moveTo>
                  <a:pt x="3001" y="15503"/>
                </a:moveTo>
                <a:cubicBezTo>
                  <a:pt x="3080" y="15460"/>
                  <a:pt x="3347" y="15299"/>
                  <a:pt x="3423" y="15453"/>
                </a:cubicBezTo>
                <a:cubicBezTo>
                  <a:pt x="3497" y="15601"/>
                  <a:pt x="3288" y="15691"/>
                  <a:pt x="3200" y="15726"/>
                </a:cubicBezTo>
                <a:cubicBezTo>
                  <a:pt x="3157" y="15726"/>
                  <a:pt x="3166" y="15720"/>
                  <a:pt x="3249" y="15701"/>
                </a:cubicBezTo>
                <a:cubicBezTo>
                  <a:pt x="3438" y="15721"/>
                  <a:pt x="3606" y="15786"/>
                  <a:pt x="3398" y="15974"/>
                </a:cubicBezTo>
                <a:cubicBezTo>
                  <a:pt x="3248" y="16109"/>
                  <a:pt x="3013" y="15988"/>
                  <a:pt x="2927" y="16073"/>
                </a:cubicBezTo>
                <a:cubicBezTo>
                  <a:pt x="2927" y="16113"/>
                  <a:pt x="2916" y="16111"/>
                  <a:pt x="2877" y="16049"/>
                </a:cubicBezTo>
              </a:path>
              <a:path w="8683" h="3920">
                <a:moveTo>
                  <a:pt x="4118" y="15056"/>
                </a:moveTo>
                <a:cubicBezTo>
                  <a:pt x="4203" y="15171"/>
                  <a:pt x="4293" y="15282"/>
                  <a:pt x="4366" y="15404"/>
                </a:cubicBezTo>
              </a:path>
              <a:path w="8683" h="3920">
                <a:moveTo>
                  <a:pt x="4440" y="15032"/>
                </a:moveTo>
                <a:cubicBezTo>
                  <a:pt x="4344" y="15154"/>
                  <a:pt x="4204" y="15257"/>
                  <a:pt x="4118" y="15379"/>
                </a:cubicBezTo>
                <a:cubicBezTo>
                  <a:pt x="4118" y="15387"/>
                  <a:pt x="4118" y="15396"/>
                  <a:pt x="4118" y="15404"/>
                </a:cubicBezTo>
              </a:path>
              <a:path w="8683" h="3920">
                <a:moveTo>
                  <a:pt x="4341" y="12973"/>
                </a:moveTo>
                <a:cubicBezTo>
                  <a:pt x="4426" y="13043"/>
                  <a:pt x="4466" y="13097"/>
                  <a:pt x="4514" y="13196"/>
                </a:cubicBezTo>
              </a:path>
              <a:path w="8683" h="3920">
                <a:moveTo>
                  <a:pt x="4514" y="12923"/>
                </a:moveTo>
                <a:cubicBezTo>
                  <a:pt x="4465" y="13002"/>
                  <a:pt x="4433" y="13071"/>
                  <a:pt x="4390" y="13146"/>
                </a:cubicBezTo>
              </a:path>
              <a:path w="8683" h="3920">
                <a:moveTo>
                  <a:pt x="6152" y="12378"/>
                </a:moveTo>
                <a:cubicBezTo>
                  <a:pt x="6109" y="12506"/>
                  <a:pt x="6088" y="12638"/>
                  <a:pt x="6077" y="12774"/>
                </a:cubicBezTo>
                <a:cubicBezTo>
                  <a:pt x="6118" y="12778"/>
                  <a:pt x="6377" y="12718"/>
                  <a:pt x="6325" y="12626"/>
                </a:cubicBezTo>
                <a:cubicBezTo>
                  <a:pt x="6292" y="12567"/>
                  <a:pt x="6257" y="12707"/>
                  <a:pt x="6251" y="12774"/>
                </a:cubicBezTo>
              </a:path>
              <a:path w="8683" h="3920">
                <a:moveTo>
                  <a:pt x="6499" y="12254"/>
                </a:moveTo>
                <a:cubicBezTo>
                  <a:pt x="6574" y="12206"/>
                  <a:pt x="6570" y="12194"/>
                  <a:pt x="6648" y="12204"/>
                </a:cubicBezTo>
                <a:cubicBezTo>
                  <a:pt x="6620" y="12294"/>
                  <a:pt x="6608" y="12343"/>
                  <a:pt x="6548" y="12402"/>
                </a:cubicBezTo>
                <a:cubicBezTo>
                  <a:pt x="6702" y="12365"/>
                  <a:pt x="6759" y="12403"/>
                  <a:pt x="6648" y="12576"/>
                </a:cubicBezTo>
                <a:cubicBezTo>
                  <a:pt x="6623" y="12601"/>
                  <a:pt x="6598" y="12625"/>
                  <a:pt x="6573" y="12650"/>
                </a:cubicBezTo>
              </a:path>
              <a:path w="8683" h="3920">
                <a:moveTo>
                  <a:pt x="5953" y="13146"/>
                </a:moveTo>
                <a:cubicBezTo>
                  <a:pt x="5976" y="13262"/>
                  <a:pt x="5984" y="13294"/>
                  <a:pt x="5978" y="13370"/>
                </a:cubicBezTo>
              </a:path>
              <a:path w="8683" h="3920">
                <a:moveTo>
                  <a:pt x="5879" y="13345"/>
                </a:moveTo>
                <a:cubicBezTo>
                  <a:pt x="6000" y="13273"/>
                  <a:pt x="6038" y="13249"/>
                  <a:pt x="6127" y="13221"/>
                </a:cubicBezTo>
              </a:path>
              <a:path w="8683" h="3920">
                <a:moveTo>
                  <a:pt x="6821" y="13097"/>
                </a:moveTo>
                <a:cubicBezTo>
                  <a:pt x="6805" y="13089"/>
                  <a:pt x="6788" y="13080"/>
                  <a:pt x="6772" y="13072"/>
                </a:cubicBezTo>
                <a:cubicBezTo>
                  <a:pt x="6789" y="13123"/>
                  <a:pt x="6994" y="13097"/>
                  <a:pt x="6945" y="13196"/>
                </a:cubicBezTo>
                <a:cubicBezTo>
                  <a:pt x="6872" y="13269"/>
                  <a:pt x="6850" y="13294"/>
                  <a:pt x="6772" y="13271"/>
                </a:cubicBezTo>
              </a:path>
              <a:path w="8683" h="3920">
                <a:moveTo>
                  <a:pt x="6722" y="13022"/>
                </a:moveTo>
                <a:cubicBezTo>
                  <a:pt x="6795" y="12957"/>
                  <a:pt x="6847" y="12915"/>
                  <a:pt x="6945" y="12898"/>
                </a:cubicBezTo>
              </a:path>
              <a:path w="8683" h="3920">
                <a:moveTo>
                  <a:pt x="6052" y="13791"/>
                </a:moveTo>
                <a:cubicBezTo>
                  <a:pt x="6345" y="13670"/>
                  <a:pt x="6632" y="13527"/>
                  <a:pt x="6921" y="13395"/>
                </a:cubicBezTo>
                <a:cubicBezTo>
                  <a:pt x="7061" y="13335"/>
                  <a:pt x="7084" y="13321"/>
                  <a:pt x="7169" y="13295"/>
                </a:cubicBezTo>
              </a:path>
              <a:path w="8683" h="3920">
                <a:moveTo>
                  <a:pt x="6449" y="13791"/>
                </a:moveTo>
                <a:cubicBezTo>
                  <a:pt x="6436" y="13877"/>
                  <a:pt x="6351" y="14199"/>
                  <a:pt x="6524" y="14188"/>
                </a:cubicBezTo>
                <a:cubicBezTo>
                  <a:pt x="6627" y="14137"/>
                  <a:pt x="6663" y="14117"/>
                  <a:pt x="6697" y="14039"/>
                </a:cubicBezTo>
                <a:cubicBezTo>
                  <a:pt x="6697" y="13981"/>
                  <a:pt x="6713" y="13957"/>
                  <a:pt x="6672" y="13965"/>
                </a:cubicBezTo>
                <a:cubicBezTo>
                  <a:pt x="6594" y="14043"/>
                  <a:pt x="6569" y="14072"/>
                  <a:pt x="6548" y="14188"/>
                </a:cubicBezTo>
              </a:path>
              <a:path w="8683" h="3920">
                <a:moveTo>
                  <a:pt x="6896" y="13667"/>
                </a:moveTo>
                <a:cubicBezTo>
                  <a:pt x="6722" y="13928"/>
                  <a:pt x="6836" y="13731"/>
                  <a:pt x="6945" y="13891"/>
                </a:cubicBezTo>
                <a:cubicBezTo>
                  <a:pt x="6953" y="13932"/>
                  <a:pt x="6962" y="13974"/>
                  <a:pt x="6970" y="14015"/>
                </a:cubicBezTo>
                <a:cubicBezTo>
                  <a:pt x="6815" y="14081"/>
                  <a:pt x="6938" y="13857"/>
                  <a:pt x="6970" y="13742"/>
                </a:cubicBezTo>
              </a:path>
              <a:path w="8683" h="3920">
                <a:moveTo>
                  <a:pt x="4837" y="14139"/>
                </a:moveTo>
                <a:cubicBezTo>
                  <a:pt x="4827" y="14322"/>
                  <a:pt x="4738" y="14508"/>
                  <a:pt x="4738" y="14684"/>
                </a:cubicBezTo>
                <a:cubicBezTo>
                  <a:pt x="4746" y="14701"/>
                  <a:pt x="4754" y="14717"/>
                  <a:pt x="4762" y="14734"/>
                </a:cubicBezTo>
                <a:cubicBezTo>
                  <a:pt x="4906" y="14758"/>
                  <a:pt x="5031" y="14735"/>
                  <a:pt x="5135" y="14610"/>
                </a:cubicBezTo>
                <a:cubicBezTo>
                  <a:pt x="5159" y="14560"/>
                  <a:pt x="5167" y="14544"/>
                  <a:pt x="5135" y="14511"/>
                </a:cubicBezTo>
                <a:cubicBezTo>
                  <a:pt x="4960" y="14482"/>
                  <a:pt x="4923" y="14559"/>
                  <a:pt x="4887" y="14734"/>
                </a:cubicBezTo>
                <a:cubicBezTo>
                  <a:pt x="4887" y="14751"/>
                  <a:pt x="4887" y="14767"/>
                  <a:pt x="4887" y="14784"/>
                </a:cubicBezTo>
              </a:path>
              <a:path w="8683" h="3920">
                <a:moveTo>
                  <a:pt x="5507" y="14163"/>
                </a:moveTo>
                <a:cubicBezTo>
                  <a:pt x="5401" y="14203"/>
                  <a:pt x="5345" y="14235"/>
                  <a:pt x="5259" y="14312"/>
                </a:cubicBezTo>
                <a:cubicBezTo>
                  <a:pt x="5313" y="14421"/>
                  <a:pt x="5495" y="14531"/>
                  <a:pt x="5482" y="14660"/>
                </a:cubicBezTo>
                <a:cubicBezTo>
                  <a:pt x="5430" y="14738"/>
                  <a:pt x="5409" y="14763"/>
                  <a:pt x="5333" y="14759"/>
                </a:cubicBezTo>
                <a:cubicBezTo>
                  <a:pt x="5272" y="14619"/>
                  <a:pt x="5378" y="14512"/>
                  <a:pt x="5457" y="14387"/>
                </a:cubicBezTo>
                <a:cubicBezTo>
                  <a:pt x="5515" y="14295"/>
                  <a:pt x="5517" y="14305"/>
                  <a:pt x="5482" y="14213"/>
                </a:cubicBezTo>
              </a:path>
              <a:path w="8683" h="3920">
                <a:moveTo>
                  <a:pt x="4738" y="15081"/>
                </a:moveTo>
                <a:cubicBezTo>
                  <a:pt x="4953" y="15110"/>
                  <a:pt x="5184" y="15066"/>
                  <a:pt x="5407" y="15056"/>
                </a:cubicBezTo>
                <a:cubicBezTo>
                  <a:pt x="5531" y="15056"/>
                  <a:pt x="5556" y="15056"/>
                  <a:pt x="5631" y="15056"/>
                </a:cubicBezTo>
              </a:path>
              <a:path w="8683" h="3920">
                <a:moveTo>
                  <a:pt x="5060" y="15304"/>
                </a:moveTo>
                <a:cubicBezTo>
                  <a:pt x="5175" y="15325"/>
                  <a:pt x="5244" y="15328"/>
                  <a:pt x="5358" y="15304"/>
                </a:cubicBezTo>
                <a:cubicBezTo>
                  <a:pt x="5390" y="15463"/>
                  <a:pt x="5312" y="15628"/>
                  <a:pt x="5234" y="15776"/>
                </a:cubicBezTo>
                <a:cubicBezTo>
                  <a:pt x="5217" y="15801"/>
                  <a:pt x="5201" y="15825"/>
                  <a:pt x="5184" y="15850"/>
                </a:cubicBezTo>
              </a:path>
              <a:path w="8683" h="3920">
                <a:moveTo>
                  <a:pt x="5879" y="15056"/>
                </a:moveTo>
                <a:cubicBezTo>
                  <a:pt x="6019" y="15029"/>
                  <a:pt x="6156" y="15032"/>
                  <a:pt x="6300" y="15032"/>
                </a:cubicBezTo>
              </a:path>
              <a:path w="8683" h="3920">
                <a:moveTo>
                  <a:pt x="5978" y="15404"/>
                </a:moveTo>
                <a:cubicBezTo>
                  <a:pt x="6079" y="15410"/>
                  <a:pt x="6174" y="15429"/>
                  <a:pt x="6276" y="15429"/>
                </a:cubicBezTo>
              </a:path>
              <a:path w="8683" h="3920">
                <a:moveTo>
                  <a:pt x="6821" y="15106"/>
                </a:moveTo>
                <a:cubicBezTo>
                  <a:pt x="7001" y="15106"/>
                  <a:pt x="7204" y="15126"/>
                  <a:pt x="7367" y="15081"/>
                </a:cubicBezTo>
                <a:cubicBezTo>
                  <a:pt x="7491" y="15046"/>
                  <a:pt x="7585" y="15032"/>
                  <a:pt x="7714" y="15032"/>
                </a:cubicBezTo>
                <a:cubicBezTo>
                  <a:pt x="7906" y="15032"/>
                  <a:pt x="8124" y="15068"/>
                  <a:pt x="8310" y="15056"/>
                </a:cubicBezTo>
                <a:cubicBezTo>
                  <a:pt x="8448" y="15047"/>
                  <a:pt x="8588" y="15032"/>
                  <a:pt x="8731" y="15032"/>
                </a:cubicBezTo>
                <a:cubicBezTo>
                  <a:pt x="8872" y="15032"/>
                  <a:pt x="9015" y="15030"/>
                  <a:pt x="9153" y="15007"/>
                </a:cubicBezTo>
                <a:cubicBezTo>
                  <a:pt x="9331" y="14977"/>
                  <a:pt x="9492" y="14920"/>
                  <a:pt x="9674" y="14908"/>
                </a:cubicBezTo>
                <a:cubicBezTo>
                  <a:pt x="9831" y="14898"/>
                  <a:pt x="9989" y="14887"/>
                  <a:pt x="10145" y="14883"/>
                </a:cubicBezTo>
                <a:cubicBezTo>
                  <a:pt x="10282" y="14879"/>
                  <a:pt x="10413" y="14894"/>
                  <a:pt x="10542" y="14908"/>
                </a:cubicBezTo>
                <a:cubicBezTo>
                  <a:pt x="10559" y="14908"/>
                  <a:pt x="10575" y="14908"/>
                  <a:pt x="10592" y="14908"/>
                </a:cubicBezTo>
              </a:path>
              <a:path w="8683" h="3920">
                <a:moveTo>
                  <a:pt x="8409" y="15429"/>
                </a:moveTo>
                <a:cubicBezTo>
                  <a:pt x="8366" y="15363"/>
                  <a:pt x="8395" y="15405"/>
                  <a:pt x="8334" y="15478"/>
                </a:cubicBezTo>
                <a:cubicBezTo>
                  <a:pt x="8375" y="15370"/>
                  <a:pt x="8552" y="15326"/>
                  <a:pt x="8582" y="15503"/>
                </a:cubicBezTo>
                <a:cubicBezTo>
                  <a:pt x="8621" y="15734"/>
                  <a:pt x="8400" y="15885"/>
                  <a:pt x="8235" y="15825"/>
                </a:cubicBezTo>
                <a:cubicBezTo>
                  <a:pt x="8256" y="15677"/>
                  <a:pt x="8352" y="15582"/>
                  <a:pt x="8533" y="15677"/>
                </a:cubicBezTo>
                <a:cubicBezTo>
                  <a:pt x="8655" y="15741"/>
                  <a:pt x="8647" y="15835"/>
                  <a:pt x="8657" y="15949"/>
                </a:cubicBezTo>
              </a:path>
              <a:path w="8683" h="3920">
                <a:moveTo>
                  <a:pt x="8979" y="15379"/>
                </a:moveTo>
                <a:cubicBezTo>
                  <a:pt x="8993" y="15560"/>
                  <a:pt x="8992" y="15696"/>
                  <a:pt x="8954" y="15875"/>
                </a:cubicBezTo>
              </a:path>
              <a:path w="8683" h="3920">
                <a:moveTo>
                  <a:pt x="7987" y="14387"/>
                </a:moveTo>
                <a:cubicBezTo>
                  <a:pt x="7958" y="14562"/>
                  <a:pt x="7904" y="14732"/>
                  <a:pt x="7888" y="14908"/>
                </a:cubicBezTo>
              </a:path>
              <a:path w="8683" h="3920">
                <a:moveTo>
                  <a:pt x="8483" y="14312"/>
                </a:moveTo>
                <a:cubicBezTo>
                  <a:pt x="8455" y="14495"/>
                  <a:pt x="8399" y="14682"/>
                  <a:pt x="8334" y="14858"/>
                </a:cubicBezTo>
                <a:cubicBezTo>
                  <a:pt x="8315" y="14899"/>
                  <a:pt x="8307" y="14905"/>
                  <a:pt x="8310" y="14932"/>
                </a:cubicBezTo>
              </a:path>
              <a:path w="8683" h="3920">
                <a:moveTo>
                  <a:pt x="8855" y="14312"/>
                </a:moveTo>
                <a:cubicBezTo>
                  <a:pt x="8759" y="14381"/>
                  <a:pt x="8665" y="14391"/>
                  <a:pt x="8657" y="14486"/>
                </a:cubicBezTo>
                <a:cubicBezTo>
                  <a:pt x="8657" y="14511"/>
                  <a:pt x="8657" y="14535"/>
                  <a:pt x="8657" y="14560"/>
                </a:cubicBezTo>
                <a:cubicBezTo>
                  <a:pt x="8725" y="14580"/>
                  <a:pt x="8877" y="14491"/>
                  <a:pt x="8930" y="14585"/>
                </a:cubicBezTo>
                <a:cubicBezTo>
                  <a:pt x="9012" y="14731"/>
                  <a:pt x="8881" y="14883"/>
                  <a:pt x="8731" y="14883"/>
                </a:cubicBezTo>
                <a:cubicBezTo>
                  <a:pt x="8654" y="14863"/>
                  <a:pt x="8636" y="14871"/>
                  <a:pt x="8607" y="14833"/>
                </a:cubicBezTo>
              </a:path>
              <a:path w="8683" h="3920">
                <a:moveTo>
                  <a:pt x="9153" y="14337"/>
                </a:moveTo>
                <a:cubicBezTo>
                  <a:pt x="9144" y="14484"/>
                  <a:pt x="9106" y="14614"/>
                  <a:pt x="9079" y="14759"/>
                </a:cubicBezTo>
                <a:cubicBezTo>
                  <a:pt x="9067" y="14821"/>
                  <a:pt x="9082" y="14892"/>
                  <a:pt x="9153" y="14908"/>
                </a:cubicBezTo>
                <a:cubicBezTo>
                  <a:pt x="9272" y="14935"/>
                  <a:pt x="9385" y="14882"/>
                  <a:pt x="9475" y="14808"/>
                </a:cubicBezTo>
                <a:cubicBezTo>
                  <a:pt x="9534" y="14760"/>
                  <a:pt x="9608" y="14697"/>
                  <a:pt x="9575" y="14610"/>
                </a:cubicBezTo>
                <a:cubicBezTo>
                  <a:pt x="9552" y="14587"/>
                  <a:pt x="9548" y="14579"/>
                  <a:pt x="9525" y="14585"/>
                </a:cubicBezTo>
                <a:cubicBezTo>
                  <a:pt x="9439" y="14602"/>
                  <a:pt x="9377" y="14631"/>
                  <a:pt x="9351" y="14734"/>
                </a:cubicBezTo>
                <a:cubicBezTo>
                  <a:pt x="9339" y="14780"/>
                  <a:pt x="9368" y="14817"/>
                  <a:pt x="9376" y="14858"/>
                </a:cubicBezTo>
              </a:path>
              <a:path w="8683" h="3920">
                <a:moveTo>
                  <a:pt x="10939" y="14759"/>
                </a:moveTo>
                <a:cubicBezTo>
                  <a:pt x="11027" y="14732"/>
                  <a:pt x="11135" y="14712"/>
                  <a:pt x="11212" y="14734"/>
                </a:cubicBezTo>
              </a:path>
              <a:path w="8683" h="3920">
                <a:moveTo>
                  <a:pt x="10964" y="15056"/>
                </a:moveTo>
                <a:cubicBezTo>
                  <a:pt x="11062" y="15086"/>
                  <a:pt x="11108" y="15076"/>
                  <a:pt x="11212" y="1505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37080" y="4303800"/>
            <a:ext cx="1035000" cy="1741320"/>
          </a:xfrm>
          <a:custGeom>
            <a:avLst/>
            <a:gdLst/>
            <a:ahLst/>
            <a:rect l="l" t="t" r="r" b="b"/>
            <a:pathLst>
              <a:path w="2878" h="4838">
                <a:moveTo>
                  <a:pt x="13990" y="13246"/>
                </a:moveTo>
                <a:cubicBezTo>
                  <a:pt x="13990" y="13229"/>
                  <a:pt x="13990" y="13213"/>
                  <a:pt x="13990" y="13196"/>
                </a:cubicBezTo>
                <a:cubicBezTo>
                  <a:pt x="13953" y="13332"/>
                  <a:pt x="13951" y="13498"/>
                  <a:pt x="13940" y="13643"/>
                </a:cubicBezTo>
                <a:cubicBezTo>
                  <a:pt x="13940" y="13676"/>
                  <a:pt x="13940" y="13709"/>
                  <a:pt x="13940" y="13742"/>
                </a:cubicBezTo>
              </a:path>
              <a:path w="2878" h="4838">
                <a:moveTo>
                  <a:pt x="14312" y="13221"/>
                </a:moveTo>
                <a:cubicBezTo>
                  <a:pt x="14467" y="13273"/>
                  <a:pt x="14555" y="13265"/>
                  <a:pt x="14709" y="13221"/>
                </a:cubicBezTo>
                <a:cubicBezTo>
                  <a:pt x="14597" y="13423"/>
                  <a:pt x="14503" y="13635"/>
                  <a:pt x="14362" y="13816"/>
                </a:cubicBezTo>
              </a:path>
              <a:path w="2878" h="4838">
                <a:moveTo>
                  <a:pt x="13395" y="13742"/>
                </a:moveTo>
                <a:cubicBezTo>
                  <a:pt x="13378" y="13680"/>
                  <a:pt x="13370" y="13654"/>
                  <a:pt x="13370" y="13593"/>
                </a:cubicBezTo>
                <a:cubicBezTo>
                  <a:pt x="13429" y="13710"/>
                  <a:pt x="13467" y="13858"/>
                  <a:pt x="13494" y="13990"/>
                </a:cubicBezTo>
              </a:path>
              <a:path w="2878" h="4838">
                <a:moveTo>
                  <a:pt x="13419" y="13568"/>
                </a:moveTo>
                <a:cubicBezTo>
                  <a:pt x="13307" y="13747"/>
                  <a:pt x="13276" y="13793"/>
                  <a:pt x="13221" y="13915"/>
                </a:cubicBezTo>
              </a:path>
              <a:path w="2878" h="4838">
                <a:moveTo>
                  <a:pt x="13742" y="12452"/>
                </a:moveTo>
                <a:cubicBezTo>
                  <a:pt x="13706" y="12648"/>
                  <a:pt x="13661" y="12818"/>
                  <a:pt x="13717" y="12998"/>
                </a:cubicBezTo>
                <a:cubicBezTo>
                  <a:pt x="13889" y="12980"/>
                  <a:pt x="14114" y="12960"/>
                  <a:pt x="14163" y="12750"/>
                </a:cubicBezTo>
                <a:cubicBezTo>
                  <a:pt x="14202" y="12583"/>
                  <a:pt x="13865" y="12951"/>
                  <a:pt x="13841" y="12998"/>
                </a:cubicBezTo>
              </a:path>
              <a:path w="2878" h="4838">
                <a:moveTo>
                  <a:pt x="14560" y="12427"/>
                </a:moveTo>
                <a:cubicBezTo>
                  <a:pt x="14385" y="12509"/>
                  <a:pt x="14299" y="12597"/>
                  <a:pt x="14461" y="12750"/>
                </a:cubicBezTo>
                <a:cubicBezTo>
                  <a:pt x="14618" y="12899"/>
                  <a:pt x="14627" y="12856"/>
                  <a:pt x="14486" y="12998"/>
                </a:cubicBezTo>
                <a:cubicBezTo>
                  <a:pt x="14319" y="12858"/>
                  <a:pt x="14389" y="12766"/>
                  <a:pt x="14536" y="12576"/>
                </a:cubicBezTo>
              </a:path>
              <a:path w="2878" h="4838">
                <a:moveTo>
                  <a:pt x="13221" y="13419"/>
                </a:moveTo>
                <a:cubicBezTo>
                  <a:pt x="13296" y="13512"/>
                  <a:pt x="13333" y="13618"/>
                  <a:pt x="13395" y="13717"/>
                </a:cubicBezTo>
              </a:path>
              <a:path w="2878" h="4838">
                <a:moveTo>
                  <a:pt x="13469" y="13370"/>
                </a:moveTo>
                <a:cubicBezTo>
                  <a:pt x="13437" y="13480"/>
                  <a:pt x="13402" y="13568"/>
                  <a:pt x="13345" y="13667"/>
                </a:cubicBezTo>
              </a:path>
              <a:path w="2878" h="4838">
                <a:moveTo>
                  <a:pt x="13543" y="14015"/>
                </a:moveTo>
                <a:cubicBezTo>
                  <a:pt x="13825" y="14064"/>
                  <a:pt x="14238" y="13982"/>
                  <a:pt x="14536" y="13965"/>
                </a:cubicBezTo>
                <a:cubicBezTo>
                  <a:pt x="14852" y="13946"/>
                  <a:pt x="15162" y="13940"/>
                  <a:pt x="15478" y="13940"/>
                </a:cubicBezTo>
              </a:path>
              <a:path w="2878" h="4838">
                <a:moveTo>
                  <a:pt x="14536" y="14188"/>
                </a:moveTo>
                <a:cubicBezTo>
                  <a:pt x="14536" y="14364"/>
                  <a:pt x="14474" y="14590"/>
                  <a:pt x="14536" y="14759"/>
                </a:cubicBezTo>
                <a:cubicBezTo>
                  <a:pt x="14624" y="14999"/>
                  <a:pt x="14878" y="14781"/>
                  <a:pt x="14957" y="14660"/>
                </a:cubicBezTo>
                <a:cubicBezTo>
                  <a:pt x="15000" y="14553"/>
                  <a:pt x="15023" y="14529"/>
                  <a:pt x="14982" y="14461"/>
                </a:cubicBezTo>
                <a:cubicBezTo>
                  <a:pt x="14847" y="14506"/>
                  <a:pt x="14851" y="14626"/>
                  <a:pt x="14833" y="14759"/>
                </a:cubicBezTo>
                <a:cubicBezTo>
                  <a:pt x="14833" y="14775"/>
                  <a:pt x="14833" y="14792"/>
                  <a:pt x="14833" y="14808"/>
                </a:cubicBezTo>
              </a:path>
              <a:path w="2878" h="4838">
                <a:moveTo>
                  <a:pt x="13717" y="11956"/>
                </a:moveTo>
                <a:cubicBezTo>
                  <a:pt x="13644" y="12004"/>
                  <a:pt x="13571" y="12104"/>
                  <a:pt x="13469" y="12080"/>
                </a:cubicBezTo>
                <a:cubicBezTo>
                  <a:pt x="13361" y="12054"/>
                  <a:pt x="13448" y="12171"/>
                  <a:pt x="13469" y="12254"/>
                </a:cubicBezTo>
                <a:cubicBezTo>
                  <a:pt x="13586" y="12155"/>
                  <a:pt x="13567" y="12159"/>
                  <a:pt x="13717" y="12179"/>
                </a:cubicBezTo>
                <a:cubicBezTo>
                  <a:pt x="13732" y="12414"/>
                  <a:pt x="13638" y="12442"/>
                  <a:pt x="13419" y="12452"/>
                </a:cubicBezTo>
              </a:path>
              <a:path w="2878" h="4838">
                <a:moveTo>
                  <a:pt x="13370" y="14213"/>
                </a:moveTo>
                <a:cubicBezTo>
                  <a:pt x="13322" y="14389"/>
                  <a:pt x="13262" y="14563"/>
                  <a:pt x="13196" y="14734"/>
                </a:cubicBezTo>
                <a:cubicBezTo>
                  <a:pt x="13365" y="14640"/>
                  <a:pt x="13476" y="14548"/>
                  <a:pt x="13667" y="14560"/>
                </a:cubicBezTo>
              </a:path>
              <a:path w="2878" h="4838">
                <a:moveTo>
                  <a:pt x="13543" y="14337"/>
                </a:moveTo>
                <a:cubicBezTo>
                  <a:pt x="13543" y="14494"/>
                  <a:pt x="13543" y="14651"/>
                  <a:pt x="13543" y="14808"/>
                </a:cubicBezTo>
              </a:path>
              <a:path w="2878" h="4838">
                <a:moveTo>
                  <a:pt x="13643" y="14288"/>
                </a:moveTo>
                <a:cubicBezTo>
                  <a:pt x="13780" y="14276"/>
                  <a:pt x="13906" y="14235"/>
                  <a:pt x="14039" y="14213"/>
                </a:cubicBezTo>
                <a:cubicBezTo>
                  <a:pt x="14039" y="14399"/>
                  <a:pt x="13976" y="14577"/>
                  <a:pt x="13940" y="14759"/>
                </a:cubicBezTo>
                <a:cubicBezTo>
                  <a:pt x="13932" y="14800"/>
                  <a:pt x="13923" y="14842"/>
                  <a:pt x="13915" y="14883"/>
                </a:cubicBezTo>
              </a:path>
              <a:path w="2878" h="4838">
                <a:moveTo>
                  <a:pt x="14784" y="15106"/>
                </a:moveTo>
                <a:cubicBezTo>
                  <a:pt x="14666" y="15106"/>
                  <a:pt x="14619" y="15112"/>
                  <a:pt x="14560" y="15230"/>
                </a:cubicBezTo>
                <a:cubicBezTo>
                  <a:pt x="14510" y="15331"/>
                  <a:pt x="14494" y="15451"/>
                  <a:pt x="14536" y="15553"/>
                </a:cubicBezTo>
                <a:cubicBezTo>
                  <a:pt x="14573" y="15641"/>
                  <a:pt x="14701" y="15640"/>
                  <a:pt x="14784" y="15602"/>
                </a:cubicBezTo>
                <a:cubicBezTo>
                  <a:pt x="14867" y="15564"/>
                  <a:pt x="14902" y="15484"/>
                  <a:pt x="14932" y="15404"/>
                </a:cubicBezTo>
                <a:cubicBezTo>
                  <a:pt x="14945" y="15368"/>
                  <a:pt x="14960" y="15237"/>
                  <a:pt x="14908" y="15205"/>
                </a:cubicBezTo>
                <a:cubicBezTo>
                  <a:pt x="14877" y="15186"/>
                  <a:pt x="14798" y="15172"/>
                  <a:pt x="14759" y="15156"/>
                </a:cubicBezTo>
                <a:cubicBezTo>
                  <a:pt x="14742" y="15148"/>
                  <a:pt x="14726" y="15139"/>
                  <a:pt x="14709" y="15131"/>
                </a:cubicBezTo>
              </a:path>
              <a:path w="2878" h="4838">
                <a:moveTo>
                  <a:pt x="14139" y="15131"/>
                </a:moveTo>
                <a:cubicBezTo>
                  <a:pt x="13921" y="15153"/>
                  <a:pt x="13855" y="15203"/>
                  <a:pt x="13717" y="15379"/>
                </a:cubicBezTo>
                <a:cubicBezTo>
                  <a:pt x="13786" y="15409"/>
                  <a:pt x="14145" y="15443"/>
                  <a:pt x="14114" y="15553"/>
                </a:cubicBezTo>
                <a:cubicBezTo>
                  <a:pt x="14079" y="15675"/>
                  <a:pt x="13923" y="15677"/>
                  <a:pt x="13841" y="15677"/>
                </a:cubicBezTo>
                <a:cubicBezTo>
                  <a:pt x="13863" y="15499"/>
                  <a:pt x="13903" y="15400"/>
                  <a:pt x="14015" y="15255"/>
                </a:cubicBezTo>
              </a:path>
              <a:path w="2878" h="4838">
                <a:moveTo>
                  <a:pt x="13370" y="15056"/>
                </a:moveTo>
                <a:cubicBezTo>
                  <a:pt x="13318" y="15077"/>
                  <a:pt x="13266" y="15119"/>
                  <a:pt x="13246" y="15180"/>
                </a:cubicBezTo>
                <a:cubicBezTo>
                  <a:pt x="13206" y="15300"/>
                  <a:pt x="13196" y="15402"/>
                  <a:pt x="13196" y="15528"/>
                </a:cubicBezTo>
                <a:cubicBezTo>
                  <a:pt x="13196" y="15568"/>
                  <a:pt x="13215" y="15670"/>
                  <a:pt x="13246" y="15701"/>
                </a:cubicBezTo>
                <a:cubicBezTo>
                  <a:pt x="13319" y="15775"/>
                  <a:pt x="13324" y="15773"/>
                  <a:pt x="13419" y="15751"/>
                </a:cubicBezTo>
                <a:cubicBezTo>
                  <a:pt x="13490" y="15734"/>
                  <a:pt x="13515" y="15705"/>
                  <a:pt x="13568" y="15652"/>
                </a:cubicBezTo>
                <a:cubicBezTo>
                  <a:pt x="13634" y="15586"/>
                  <a:pt x="13640" y="15523"/>
                  <a:pt x="13568" y="15478"/>
                </a:cubicBezTo>
                <a:cubicBezTo>
                  <a:pt x="13504" y="15438"/>
                  <a:pt x="13442" y="15437"/>
                  <a:pt x="13395" y="15503"/>
                </a:cubicBezTo>
                <a:cubicBezTo>
                  <a:pt x="13346" y="15571"/>
                  <a:pt x="13372" y="15681"/>
                  <a:pt x="13395" y="15751"/>
                </a:cubicBezTo>
              </a:path>
              <a:path w="2878" h="4838">
                <a:moveTo>
                  <a:pt x="13022" y="15825"/>
                </a:moveTo>
                <a:cubicBezTo>
                  <a:pt x="13166" y="15825"/>
                  <a:pt x="13301" y="15847"/>
                  <a:pt x="13444" y="15850"/>
                </a:cubicBezTo>
                <a:cubicBezTo>
                  <a:pt x="13650" y="15854"/>
                  <a:pt x="13859" y="15879"/>
                  <a:pt x="14064" y="15900"/>
                </a:cubicBezTo>
                <a:cubicBezTo>
                  <a:pt x="14251" y="15919"/>
                  <a:pt x="14425" y="15929"/>
                  <a:pt x="14610" y="15900"/>
                </a:cubicBezTo>
                <a:cubicBezTo>
                  <a:pt x="14771" y="15875"/>
                  <a:pt x="14949" y="15891"/>
                  <a:pt x="15106" y="15850"/>
                </a:cubicBezTo>
                <a:cubicBezTo>
                  <a:pt x="15123" y="15842"/>
                  <a:pt x="15139" y="15833"/>
                  <a:pt x="15156" y="15825"/>
                </a:cubicBezTo>
              </a:path>
              <a:path w="2878" h="4838">
                <a:moveTo>
                  <a:pt x="12675" y="15106"/>
                </a:moveTo>
                <a:cubicBezTo>
                  <a:pt x="12700" y="15244"/>
                  <a:pt x="12725" y="15357"/>
                  <a:pt x="12725" y="15503"/>
                </a:cubicBezTo>
              </a:path>
              <a:path w="2878" h="4838">
                <a:moveTo>
                  <a:pt x="12601" y="15280"/>
                </a:moveTo>
                <a:cubicBezTo>
                  <a:pt x="12720" y="15280"/>
                  <a:pt x="12810" y="15279"/>
                  <a:pt x="12923" y="15304"/>
                </a:cubicBezTo>
              </a:path>
              <a:path w="2878" h="4838">
                <a:moveTo>
                  <a:pt x="14784" y="16098"/>
                </a:moveTo>
                <a:cubicBezTo>
                  <a:pt x="14813" y="16068"/>
                  <a:pt x="14824" y="16054"/>
                  <a:pt x="14833" y="16024"/>
                </a:cubicBezTo>
                <a:cubicBezTo>
                  <a:pt x="14833" y="16101"/>
                  <a:pt x="14810" y="16147"/>
                  <a:pt x="14784" y="16222"/>
                </a:cubicBezTo>
                <a:cubicBezTo>
                  <a:pt x="14757" y="16300"/>
                  <a:pt x="14759" y="16366"/>
                  <a:pt x="14759" y="16446"/>
                </a:cubicBezTo>
                <a:cubicBezTo>
                  <a:pt x="14759" y="16506"/>
                  <a:pt x="14740" y="16587"/>
                  <a:pt x="14808" y="16619"/>
                </a:cubicBezTo>
                <a:cubicBezTo>
                  <a:pt x="14912" y="16668"/>
                  <a:pt x="15044" y="16611"/>
                  <a:pt x="15131" y="16545"/>
                </a:cubicBezTo>
                <a:cubicBezTo>
                  <a:pt x="15170" y="16516"/>
                  <a:pt x="15227" y="16435"/>
                  <a:pt x="15180" y="16396"/>
                </a:cubicBezTo>
                <a:cubicBezTo>
                  <a:pt x="15148" y="16369"/>
                  <a:pt x="15029" y="16366"/>
                  <a:pt x="15007" y="16396"/>
                </a:cubicBezTo>
                <a:cubicBezTo>
                  <a:pt x="14972" y="16445"/>
                  <a:pt x="14957" y="16525"/>
                  <a:pt x="14957" y="16594"/>
                </a:cubicBezTo>
                <a:cubicBezTo>
                  <a:pt x="14957" y="16611"/>
                  <a:pt x="14957" y="16627"/>
                  <a:pt x="14957" y="16644"/>
                </a:cubicBezTo>
              </a:path>
              <a:path w="2878" h="4838">
                <a:moveTo>
                  <a:pt x="14238" y="16222"/>
                </a:moveTo>
                <a:cubicBezTo>
                  <a:pt x="14148" y="16178"/>
                  <a:pt x="14125" y="16165"/>
                  <a:pt x="14064" y="16148"/>
                </a:cubicBezTo>
                <a:cubicBezTo>
                  <a:pt x="14029" y="16239"/>
                  <a:pt x="14064" y="16329"/>
                  <a:pt x="14039" y="16421"/>
                </a:cubicBezTo>
                <a:cubicBezTo>
                  <a:pt x="14031" y="16429"/>
                  <a:pt x="14023" y="16438"/>
                  <a:pt x="14015" y="16446"/>
                </a:cubicBezTo>
                <a:cubicBezTo>
                  <a:pt x="14165" y="16405"/>
                  <a:pt x="14195" y="16388"/>
                  <a:pt x="14337" y="16421"/>
                </a:cubicBezTo>
                <a:cubicBezTo>
                  <a:pt x="14315" y="16595"/>
                  <a:pt x="14283" y="16691"/>
                  <a:pt x="14089" y="16718"/>
                </a:cubicBezTo>
                <a:cubicBezTo>
                  <a:pt x="13970" y="16718"/>
                  <a:pt x="13932" y="16720"/>
                  <a:pt x="13866" y="16669"/>
                </a:cubicBezTo>
              </a:path>
              <a:path w="2878" h="4838">
                <a:moveTo>
                  <a:pt x="13271" y="13891"/>
                </a:moveTo>
                <a:cubicBezTo>
                  <a:pt x="13271" y="13974"/>
                  <a:pt x="13271" y="14056"/>
                  <a:pt x="13271" y="14139"/>
                </a:cubicBezTo>
              </a:path>
              <a:path w="2878" h="4838">
                <a:moveTo>
                  <a:pt x="12824" y="16247"/>
                </a:moveTo>
                <a:cubicBezTo>
                  <a:pt x="12842" y="16448"/>
                  <a:pt x="12798" y="16574"/>
                  <a:pt x="12750" y="16768"/>
                </a:cubicBezTo>
                <a:cubicBezTo>
                  <a:pt x="12750" y="16793"/>
                  <a:pt x="12750" y="16801"/>
                  <a:pt x="12750" y="16768"/>
                </a:cubicBezTo>
              </a:path>
              <a:path w="2878" h="4838">
                <a:moveTo>
                  <a:pt x="13320" y="16148"/>
                </a:moveTo>
                <a:cubicBezTo>
                  <a:pt x="13307" y="16344"/>
                  <a:pt x="13260" y="16523"/>
                  <a:pt x="13246" y="1671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17996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2828" y="11609"/>
                </a:moveTo>
                <a:cubicBezTo>
                  <a:pt x="2847" y="11721"/>
                  <a:pt x="2893" y="11810"/>
                  <a:pt x="2902" y="11931"/>
                </a:cubicBezTo>
              </a:path>
              <a:path w="249" h="323">
                <a:moveTo>
                  <a:pt x="2753" y="11832"/>
                </a:moveTo>
                <a:cubicBezTo>
                  <a:pt x="2814" y="11805"/>
                  <a:pt x="2895" y="11769"/>
                  <a:pt x="2952" y="11757"/>
                </a:cubicBezTo>
                <a:cubicBezTo>
                  <a:pt x="2968" y="11757"/>
                  <a:pt x="2985" y="11757"/>
                  <a:pt x="3001" y="1175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2040" y="4929120"/>
            <a:ext cx="2438280" cy="1527120"/>
          </a:xfrm>
          <a:custGeom>
            <a:avLst/>
            <a:gdLst/>
            <a:ahLst/>
            <a:rect l="l" t="t" r="r" b="b"/>
            <a:pathLst>
              <a:path w="6773" h="4243">
                <a:moveTo>
                  <a:pt x="18876" y="14734"/>
                </a:moveTo>
                <a:cubicBezTo>
                  <a:pt x="18891" y="14980"/>
                  <a:pt x="18866" y="15207"/>
                  <a:pt x="18852" y="15453"/>
                </a:cubicBezTo>
              </a:path>
              <a:path w="6773" h="4243">
                <a:moveTo>
                  <a:pt x="19273" y="14784"/>
                </a:moveTo>
                <a:cubicBezTo>
                  <a:pt x="19273" y="15032"/>
                  <a:pt x="19273" y="15280"/>
                  <a:pt x="19273" y="15528"/>
                </a:cubicBezTo>
              </a:path>
              <a:path w="6773" h="4243">
                <a:moveTo>
                  <a:pt x="19943" y="14833"/>
                </a:moveTo>
                <a:cubicBezTo>
                  <a:pt x="19807" y="14833"/>
                  <a:pt x="19728" y="14790"/>
                  <a:pt x="19670" y="14908"/>
                </a:cubicBezTo>
                <a:cubicBezTo>
                  <a:pt x="19625" y="15021"/>
                  <a:pt x="19609" y="15051"/>
                  <a:pt x="19621" y="15131"/>
                </a:cubicBezTo>
                <a:cubicBezTo>
                  <a:pt x="19769" y="15116"/>
                  <a:pt x="19901" y="15041"/>
                  <a:pt x="20042" y="15131"/>
                </a:cubicBezTo>
                <a:cubicBezTo>
                  <a:pt x="20249" y="15264"/>
                  <a:pt x="19891" y="15427"/>
                  <a:pt x="19794" y="15429"/>
                </a:cubicBezTo>
                <a:cubicBezTo>
                  <a:pt x="19736" y="15421"/>
                  <a:pt x="19679" y="15412"/>
                  <a:pt x="19621" y="15404"/>
                </a:cubicBezTo>
              </a:path>
              <a:path w="6773" h="4243">
                <a:moveTo>
                  <a:pt x="20315" y="14808"/>
                </a:moveTo>
                <a:cubicBezTo>
                  <a:pt x="20305" y="14960"/>
                  <a:pt x="20231" y="15196"/>
                  <a:pt x="20389" y="15304"/>
                </a:cubicBezTo>
                <a:cubicBezTo>
                  <a:pt x="20608" y="15454"/>
                  <a:pt x="20736" y="15176"/>
                  <a:pt x="20786" y="15032"/>
                </a:cubicBezTo>
                <a:cubicBezTo>
                  <a:pt x="20615" y="15098"/>
                  <a:pt x="20576" y="15193"/>
                  <a:pt x="20588" y="15379"/>
                </a:cubicBezTo>
              </a:path>
              <a:path w="6773" h="4243">
                <a:moveTo>
                  <a:pt x="18604" y="15553"/>
                </a:moveTo>
                <a:cubicBezTo>
                  <a:pt x="18614" y="15352"/>
                  <a:pt x="18637" y="15160"/>
                  <a:pt x="18628" y="14957"/>
                </a:cubicBezTo>
                <a:cubicBezTo>
                  <a:pt x="18622" y="14825"/>
                  <a:pt x="18596" y="14690"/>
                  <a:pt x="18579" y="14560"/>
                </a:cubicBezTo>
                <a:cubicBezTo>
                  <a:pt x="18791" y="14513"/>
                  <a:pt x="19007" y="14553"/>
                  <a:pt x="19224" y="14536"/>
                </a:cubicBezTo>
                <a:cubicBezTo>
                  <a:pt x="19943" y="14478"/>
                  <a:pt x="20663" y="14432"/>
                  <a:pt x="21382" y="14387"/>
                </a:cubicBezTo>
                <a:cubicBezTo>
                  <a:pt x="21559" y="14369"/>
                  <a:pt x="21592" y="14309"/>
                  <a:pt x="21654" y="14387"/>
                </a:cubicBezTo>
              </a:path>
              <a:path w="6773" h="4243">
                <a:moveTo>
                  <a:pt x="17562" y="14858"/>
                </a:moveTo>
                <a:cubicBezTo>
                  <a:pt x="17519" y="14966"/>
                  <a:pt x="17676" y="14801"/>
                  <a:pt x="17760" y="14957"/>
                </a:cubicBezTo>
                <a:cubicBezTo>
                  <a:pt x="17892" y="15203"/>
                  <a:pt x="17613" y="15418"/>
                  <a:pt x="17388" y="15379"/>
                </a:cubicBezTo>
                <a:cubicBezTo>
                  <a:pt x="17371" y="15362"/>
                  <a:pt x="17355" y="15346"/>
                  <a:pt x="17338" y="15329"/>
                </a:cubicBezTo>
                <a:cubicBezTo>
                  <a:pt x="17476" y="15158"/>
                  <a:pt x="17701" y="15069"/>
                  <a:pt x="17909" y="15255"/>
                </a:cubicBezTo>
                <a:cubicBezTo>
                  <a:pt x="17960" y="15301"/>
                  <a:pt x="17949" y="15439"/>
                  <a:pt x="17983" y="15404"/>
                </a:cubicBezTo>
              </a:path>
              <a:path w="6773" h="4243">
                <a:moveTo>
                  <a:pt x="18157" y="14808"/>
                </a:moveTo>
                <a:cubicBezTo>
                  <a:pt x="18191" y="15009"/>
                  <a:pt x="18207" y="15200"/>
                  <a:pt x="18207" y="15404"/>
                </a:cubicBezTo>
              </a:path>
              <a:path w="6773" h="4243">
                <a:moveTo>
                  <a:pt x="19918" y="13767"/>
                </a:moveTo>
                <a:cubicBezTo>
                  <a:pt x="19795" y="13807"/>
                  <a:pt x="19753" y="13745"/>
                  <a:pt x="19720" y="13891"/>
                </a:cubicBezTo>
                <a:cubicBezTo>
                  <a:pt x="19720" y="13907"/>
                  <a:pt x="19720" y="13924"/>
                  <a:pt x="19720" y="13940"/>
                </a:cubicBezTo>
                <a:cubicBezTo>
                  <a:pt x="19815" y="13964"/>
                  <a:pt x="19908" y="13870"/>
                  <a:pt x="19993" y="13965"/>
                </a:cubicBezTo>
                <a:cubicBezTo>
                  <a:pt x="20114" y="14100"/>
                  <a:pt x="19892" y="14208"/>
                  <a:pt x="19794" y="14188"/>
                </a:cubicBezTo>
                <a:cubicBezTo>
                  <a:pt x="19778" y="14180"/>
                  <a:pt x="19761" y="14171"/>
                  <a:pt x="19745" y="14163"/>
                </a:cubicBezTo>
              </a:path>
              <a:path w="6773" h="4243">
                <a:moveTo>
                  <a:pt x="18926" y="15627"/>
                </a:moveTo>
                <a:cubicBezTo>
                  <a:pt x="18916" y="15772"/>
                  <a:pt x="18897" y="15912"/>
                  <a:pt x="18852" y="16049"/>
                </a:cubicBezTo>
              </a:path>
              <a:path w="6773" h="4243">
                <a:moveTo>
                  <a:pt x="19348" y="15726"/>
                </a:moveTo>
                <a:cubicBezTo>
                  <a:pt x="19279" y="15847"/>
                  <a:pt x="19222" y="15939"/>
                  <a:pt x="19248" y="16073"/>
                </a:cubicBezTo>
                <a:cubicBezTo>
                  <a:pt x="19307" y="16036"/>
                  <a:pt x="19479" y="15896"/>
                  <a:pt x="19372" y="15801"/>
                </a:cubicBezTo>
                <a:cubicBezTo>
                  <a:pt x="19347" y="15793"/>
                  <a:pt x="19323" y="15784"/>
                  <a:pt x="19298" y="15776"/>
                </a:cubicBezTo>
              </a:path>
              <a:path w="6773" h="4243">
                <a:moveTo>
                  <a:pt x="19844" y="15602"/>
                </a:moveTo>
                <a:cubicBezTo>
                  <a:pt x="19790" y="15635"/>
                  <a:pt x="19735" y="15632"/>
                  <a:pt x="19695" y="15701"/>
                </a:cubicBezTo>
                <a:cubicBezTo>
                  <a:pt x="19695" y="15709"/>
                  <a:pt x="19695" y="15718"/>
                  <a:pt x="19695" y="15726"/>
                </a:cubicBezTo>
                <a:cubicBezTo>
                  <a:pt x="19794" y="15759"/>
                  <a:pt x="19945" y="15685"/>
                  <a:pt x="20017" y="15776"/>
                </a:cubicBezTo>
                <a:cubicBezTo>
                  <a:pt x="20153" y="15946"/>
                  <a:pt x="19781" y="15929"/>
                  <a:pt x="19745" y="15925"/>
                </a:cubicBezTo>
              </a:path>
              <a:path w="6773" h="4243">
                <a:moveTo>
                  <a:pt x="18504" y="15875"/>
                </a:moveTo>
                <a:cubicBezTo>
                  <a:pt x="18529" y="15875"/>
                  <a:pt x="18554" y="15875"/>
                  <a:pt x="18579" y="15875"/>
                </a:cubicBezTo>
              </a:path>
              <a:path w="6773" h="4243">
                <a:moveTo>
                  <a:pt x="19844" y="15627"/>
                </a:moveTo>
                <a:cubicBezTo>
                  <a:pt x="19913" y="15605"/>
                  <a:pt x="19982" y="15587"/>
                  <a:pt x="20042" y="15553"/>
                </a:cubicBezTo>
              </a:path>
              <a:path w="6773" h="4243">
                <a:moveTo>
                  <a:pt x="18579" y="16247"/>
                </a:moveTo>
                <a:cubicBezTo>
                  <a:pt x="18784" y="16228"/>
                  <a:pt x="18973" y="16154"/>
                  <a:pt x="19174" y="16123"/>
                </a:cubicBezTo>
                <a:cubicBezTo>
                  <a:pt x="19528" y="16068"/>
                  <a:pt x="19887" y="16064"/>
                  <a:pt x="20241" y="16073"/>
                </a:cubicBezTo>
                <a:cubicBezTo>
                  <a:pt x="20368" y="16073"/>
                  <a:pt x="20392" y="16105"/>
                  <a:pt x="20439" y="16049"/>
                </a:cubicBezTo>
              </a:path>
              <a:path w="6773" h="4243">
                <a:moveTo>
                  <a:pt x="19397" y="16272"/>
                </a:moveTo>
                <a:cubicBezTo>
                  <a:pt x="19452" y="16427"/>
                  <a:pt x="19463" y="16483"/>
                  <a:pt x="19447" y="16644"/>
                </a:cubicBezTo>
              </a:path>
              <a:path w="6773" h="4243">
                <a:moveTo>
                  <a:pt x="19893" y="16396"/>
                </a:moveTo>
                <a:cubicBezTo>
                  <a:pt x="19888" y="16422"/>
                  <a:pt x="19829" y="16667"/>
                  <a:pt x="19943" y="16644"/>
                </a:cubicBezTo>
                <a:cubicBezTo>
                  <a:pt x="20029" y="16627"/>
                  <a:pt x="20156" y="16510"/>
                  <a:pt x="20067" y="16421"/>
                </a:cubicBezTo>
                <a:cubicBezTo>
                  <a:pt x="20042" y="16404"/>
                  <a:pt x="20018" y="16388"/>
                  <a:pt x="19993" y="16371"/>
                </a:cubicBezTo>
              </a:path>
              <a:path w="6773" h="4243">
                <a:moveTo>
                  <a:pt x="20439" y="15677"/>
                </a:moveTo>
                <a:cubicBezTo>
                  <a:pt x="20458" y="15788"/>
                  <a:pt x="20478" y="15886"/>
                  <a:pt x="20489" y="15999"/>
                </a:cubicBezTo>
              </a:path>
              <a:path w="6773" h="4243">
                <a:moveTo>
                  <a:pt x="20389" y="16049"/>
                </a:moveTo>
                <a:cubicBezTo>
                  <a:pt x="20525" y="16023"/>
                  <a:pt x="20556" y="15998"/>
                  <a:pt x="20662" y="15900"/>
                </a:cubicBezTo>
              </a:path>
              <a:path w="6773" h="4243">
                <a:moveTo>
                  <a:pt x="20464" y="16247"/>
                </a:moveTo>
                <a:cubicBezTo>
                  <a:pt x="20414" y="16368"/>
                  <a:pt x="20365" y="16493"/>
                  <a:pt x="20340" y="16619"/>
                </a:cubicBezTo>
                <a:cubicBezTo>
                  <a:pt x="20466" y="16649"/>
                  <a:pt x="20600" y="16661"/>
                  <a:pt x="20712" y="16570"/>
                </a:cubicBezTo>
                <a:cubicBezTo>
                  <a:pt x="20785" y="16511"/>
                  <a:pt x="20746" y="16462"/>
                  <a:pt x="20712" y="16421"/>
                </a:cubicBezTo>
                <a:cubicBezTo>
                  <a:pt x="20647" y="16502"/>
                  <a:pt x="20628" y="16543"/>
                  <a:pt x="20613" y="16644"/>
                </a:cubicBezTo>
              </a:path>
              <a:path w="6773" h="4243">
                <a:moveTo>
                  <a:pt x="20563" y="13692"/>
                </a:moveTo>
                <a:cubicBezTo>
                  <a:pt x="20469" y="13743"/>
                  <a:pt x="20311" y="13739"/>
                  <a:pt x="20290" y="13841"/>
                </a:cubicBezTo>
                <a:cubicBezTo>
                  <a:pt x="20272" y="13927"/>
                  <a:pt x="20294" y="13957"/>
                  <a:pt x="20340" y="14015"/>
                </a:cubicBezTo>
                <a:cubicBezTo>
                  <a:pt x="20494" y="13919"/>
                  <a:pt x="20533" y="13884"/>
                  <a:pt x="20662" y="14015"/>
                </a:cubicBezTo>
                <a:cubicBezTo>
                  <a:pt x="20607" y="14222"/>
                  <a:pt x="20503" y="14203"/>
                  <a:pt x="20290" y="14213"/>
                </a:cubicBezTo>
              </a:path>
              <a:path w="6773" h="4243">
                <a:moveTo>
                  <a:pt x="19397" y="16867"/>
                </a:moveTo>
                <a:cubicBezTo>
                  <a:pt x="19438" y="16975"/>
                  <a:pt x="19447" y="17024"/>
                  <a:pt x="19447" y="17140"/>
                </a:cubicBezTo>
              </a:path>
              <a:path w="6773" h="4243">
                <a:moveTo>
                  <a:pt x="19869" y="16867"/>
                </a:moveTo>
                <a:cubicBezTo>
                  <a:pt x="19852" y="16977"/>
                  <a:pt x="19832" y="17041"/>
                  <a:pt x="19869" y="17140"/>
                </a:cubicBezTo>
                <a:cubicBezTo>
                  <a:pt x="19918" y="17115"/>
                  <a:pt x="20224" y="16933"/>
                  <a:pt x="20042" y="16867"/>
                </a:cubicBezTo>
                <a:cubicBezTo>
                  <a:pt x="19957" y="16867"/>
                  <a:pt x="19937" y="16861"/>
                  <a:pt x="19893" y="16892"/>
                </a:cubicBezTo>
              </a:path>
              <a:path w="6773" h="4243">
                <a:moveTo>
                  <a:pt x="20439" y="16818"/>
                </a:moveTo>
                <a:cubicBezTo>
                  <a:pt x="20411" y="16927"/>
                  <a:pt x="20595" y="16817"/>
                  <a:pt x="20662" y="16892"/>
                </a:cubicBezTo>
                <a:cubicBezTo>
                  <a:pt x="20729" y="16967"/>
                  <a:pt x="20596" y="17060"/>
                  <a:pt x="20563" y="17090"/>
                </a:cubicBezTo>
              </a:path>
              <a:path w="6773" h="4243">
                <a:moveTo>
                  <a:pt x="20588" y="16743"/>
                </a:moveTo>
                <a:cubicBezTo>
                  <a:pt x="20687" y="16718"/>
                  <a:pt x="20720" y="16710"/>
                  <a:pt x="20786" y="16694"/>
                </a:cubicBezTo>
              </a:path>
              <a:path w="6773" h="4243">
                <a:moveTo>
                  <a:pt x="19298" y="17512"/>
                </a:moveTo>
                <a:cubicBezTo>
                  <a:pt x="19775" y="17386"/>
                  <a:pt x="20254" y="17265"/>
                  <a:pt x="20737" y="17165"/>
                </a:cubicBezTo>
                <a:cubicBezTo>
                  <a:pt x="20852" y="17146"/>
                  <a:pt x="20868" y="17137"/>
                  <a:pt x="20935" y="17140"/>
                </a:cubicBezTo>
              </a:path>
              <a:path w="6773" h="4243">
                <a:moveTo>
                  <a:pt x="18951" y="16892"/>
                </a:moveTo>
                <a:cubicBezTo>
                  <a:pt x="19041" y="16869"/>
                  <a:pt x="19065" y="16861"/>
                  <a:pt x="19124" y="16867"/>
                </a:cubicBezTo>
              </a:path>
              <a:path w="6773" h="4243">
                <a:moveTo>
                  <a:pt x="20563" y="17487"/>
                </a:moveTo>
                <a:cubicBezTo>
                  <a:pt x="20563" y="17645"/>
                  <a:pt x="20532" y="17781"/>
                  <a:pt x="20513" y="17934"/>
                </a:cubicBezTo>
              </a:path>
              <a:path w="6773" h="4243">
                <a:moveTo>
                  <a:pt x="21654" y="14808"/>
                </a:moveTo>
                <a:cubicBezTo>
                  <a:pt x="21721" y="14825"/>
                  <a:pt x="21759" y="14833"/>
                  <a:pt x="21828" y="14833"/>
                </a:cubicBezTo>
              </a:path>
              <a:path w="6773" h="4243">
                <a:moveTo>
                  <a:pt x="21828" y="15081"/>
                </a:moveTo>
                <a:cubicBezTo>
                  <a:pt x="21961" y="15059"/>
                  <a:pt x="21995" y="15054"/>
                  <a:pt x="22076" y="15032"/>
                </a:cubicBezTo>
              </a:path>
              <a:path w="6773" h="4243">
                <a:moveTo>
                  <a:pt x="22448" y="14585"/>
                </a:moveTo>
                <a:cubicBezTo>
                  <a:pt x="22506" y="14585"/>
                  <a:pt x="22455" y="14738"/>
                  <a:pt x="22448" y="14833"/>
                </a:cubicBezTo>
                <a:cubicBezTo>
                  <a:pt x="22573" y="14762"/>
                  <a:pt x="22842" y="14643"/>
                  <a:pt x="22796" y="14932"/>
                </a:cubicBezTo>
                <a:cubicBezTo>
                  <a:pt x="22762" y="15144"/>
                  <a:pt x="22590" y="15125"/>
                  <a:pt x="22448" y="15131"/>
                </a:cubicBezTo>
              </a:path>
              <a:path w="6773" h="4243">
                <a:moveTo>
                  <a:pt x="22597" y="14511"/>
                </a:moveTo>
                <a:cubicBezTo>
                  <a:pt x="22721" y="14461"/>
                  <a:pt x="22762" y="14444"/>
                  <a:pt x="22845" y="14412"/>
                </a:cubicBezTo>
              </a:path>
              <a:path w="6773" h="4243">
                <a:moveTo>
                  <a:pt x="23068" y="14461"/>
                </a:moveTo>
                <a:cubicBezTo>
                  <a:pt x="23035" y="14555"/>
                  <a:pt x="23008" y="14638"/>
                  <a:pt x="22994" y="14734"/>
                </a:cubicBezTo>
                <a:cubicBezTo>
                  <a:pt x="23073" y="14689"/>
                  <a:pt x="23347" y="14489"/>
                  <a:pt x="23366" y="14734"/>
                </a:cubicBezTo>
                <a:cubicBezTo>
                  <a:pt x="23383" y="14960"/>
                  <a:pt x="23109" y="14990"/>
                  <a:pt x="22969" y="14982"/>
                </a:cubicBezTo>
              </a:path>
              <a:path w="6773" h="4243">
                <a:moveTo>
                  <a:pt x="23044" y="14461"/>
                </a:moveTo>
                <a:cubicBezTo>
                  <a:pt x="23135" y="14435"/>
                  <a:pt x="23225" y="14413"/>
                  <a:pt x="23316" y="14387"/>
                </a:cubicBezTo>
              </a:path>
              <a:path w="6773" h="4243">
                <a:moveTo>
                  <a:pt x="23862" y="14114"/>
                </a:moveTo>
                <a:cubicBezTo>
                  <a:pt x="23884" y="14281"/>
                  <a:pt x="23904" y="14443"/>
                  <a:pt x="23912" y="14610"/>
                </a:cubicBezTo>
              </a:path>
              <a:path w="6773" h="4243">
                <a:moveTo>
                  <a:pt x="23738" y="14784"/>
                </a:moveTo>
                <a:cubicBezTo>
                  <a:pt x="23865" y="14746"/>
                  <a:pt x="23988" y="14710"/>
                  <a:pt x="24110" y="14660"/>
                </a:cubicBezTo>
              </a:path>
              <a:path w="6773" h="4243">
                <a:moveTo>
                  <a:pt x="23713" y="15056"/>
                </a:moveTo>
                <a:cubicBezTo>
                  <a:pt x="23842" y="15016"/>
                  <a:pt x="23842" y="14987"/>
                  <a:pt x="23937" y="15081"/>
                </a:cubicBezTo>
                <a:cubicBezTo>
                  <a:pt x="23856" y="15217"/>
                  <a:pt x="23752" y="15326"/>
                  <a:pt x="23664" y="15453"/>
                </a:cubicBezTo>
                <a:cubicBezTo>
                  <a:pt x="23776" y="15425"/>
                  <a:pt x="23876" y="15383"/>
                  <a:pt x="23986" y="15329"/>
                </a:cubicBezTo>
                <a:cubicBezTo>
                  <a:pt x="24003" y="15321"/>
                  <a:pt x="24019" y="15312"/>
                  <a:pt x="24036" y="15304"/>
                </a:cubicBezTo>
              </a:path>
              <a:path w="6773" h="4243">
                <a:moveTo>
                  <a:pt x="24036" y="14932"/>
                </a:moveTo>
                <a:cubicBezTo>
                  <a:pt x="24071" y="15057"/>
                  <a:pt x="24077" y="15184"/>
                  <a:pt x="24110" y="153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6796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97" y="18876"/>
                </a:moveTo>
                <a:lnTo>
                  <a:pt x="3597" y="1887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320" y="4537080"/>
            <a:ext cx="1687680" cy="71280"/>
          </a:xfrm>
          <a:custGeom>
            <a:avLst/>
            <a:gdLst/>
            <a:ahLst/>
            <a:rect l="l" t="t" r="r" b="b"/>
            <a:pathLst>
              <a:path w="4689" h="199">
                <a:moveTo>
                  <a:pt x="1662" y="12774"/>
                </a:moveTo>
                <a:cubicBezTo>
                  <a:pt x="1788" y="12795"/>
                  <a:pt x="1922" y="12774"/>
                  <a:pt x="2059" y="12774"/>
                </a:cubicBezTo>
                <a:cubicBezTo>
                  <a:pt x="2376" y="12774"/>
                  <a:pt x="2687" y="12767"/>
                  <a:pt x="3001" y="12750"/>
                </a:cubicBezTo>
                <a:cubicBezTo>
                  <a:pt x="3226" y="12738"/>
                  <a:pt x="3447" y="12714"/>
                  <a:pt x="3671" y="12700"/>
                </a:cubicBezTo>
                <a:cubicBezTo>
                  <a:pt x="3927" y="12684"/>
                  <a:pt x="4182" y="12675"/>
                  <a:pt x="4440" y="12675"/>
                </a:cubicBezTo>
                <a:cubicBezTo>
                  <a:pt x="4705" y="12675"/>
                  <a:pt x="4970" y="12667"/>
                  <a:pt x="5234" y="12650"/>
                </a:cubicBezTo>
                <a:cubicBezTo>
                  <a:pt x="5514" y="12632"/>
                  <a:pt x="5798" y="12647"/>
                  <a:pt x="6077" y="12626"/>
                </a:cubicBezTo>
                <a:cubicBezTo>
                  <a:pt x="6173" y="12619"/>
                  <a:pt x="6256" y="12606"/>
                  <a:pt x="6350" y="1260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5280" y="2330280"/>
            <a:ext cx="527040" cy="38448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347" y="6772"/>
                </a:moveTo>
                <a:cubicBezTo>
                  <a:pt x="508" y="6964"/>
                  <a:pt x="556" y="7175"/>
                  <a:pt x="670" y="7392"/>
                </a:cubicBezTo>
                <a:cubicBezTo>
                  <a:pt x="730" y="7473"/>
                  <a:pt x="745" y="7486"/>
                  <a:pt x="769" y="7541"/>
                </a:cubicBezTo>
              </a:path>
              <a:path w="1465" h="1068">
                <a:moveTo>
                  <a:pt x="819" y="7020"/>
                </a:moveTo>
                <a:cubicBezTo>
                  <a:pt x="920" y="7088"/>
                  <a:pt x="979" y="7163"/>
                  <a:pt x="1042" y="7268"/>
                </a:cubicBezTo>
              </a:path>
              <a:path w="1465" h="1068">
                <a:moveTo>
                  <a:pt x="695" y="6796"/>
                </a:moveTo>
                <a:lnTo>
                  <a:pt x="695" y="6796"/>
                </a:lnTo>
              </a:path>
              <a:path w="1465" h="1068">
                <a:moveTo>
                  <a:pt x="744" y="6672"/>
                </a:moveTo>
                <a:cubicBezTo>
                  <a:pt x="917" y="6749"/>
                  <a:pt x="1072" y="6862"/>
                  <a:pt x="1215" y="6995"/>
                </a:cubicBezTo>
                <a:cubicBezTo>
                  <a:pt x="1240" y="7020"/>
                  <a:pt x="1265" y="7044"/>
                  <a:pt x="1290" y="7069"/>
                </a:cubicBezTo>
              </a:path>
              <a:path w="1465" h="1068">
                <a:moveTo>
                  <a:pt x="1141" y="6573"/>
                </a:moveTo>
                <a:cubicBezTo>
                  <a:pt x="1141" y="6706"/>
                  <a:pt x="1145" y="6741"/>
                  <a:pt x="1116" y="6821"/>
                </a:cubicBezTo>
                <a:cubicBezTo>
                  <a:pt x="1151" y="6682"/>
                  <a:pt x="1279" y="6658"/>
                  <a:pt x="1389" y="6772"/>
                </a:cubicBezTo>
                <a:cubicBezTo>
                  <a:pt x="1483" y="6870"/>
                  <a:pt x="1430" y="6930"/>
                  <a:pt x="1364" y="6995"/>
                </a:cubicBezTo>
              </a:path>
              <a:path w="1465" h="1068">
                <a:moveTo>
                  <a:pt x="1389" y="6772"/>
                </a:moveTo>
                <a:cubicBezTo>
                  <a:pt x="1564" y="6754"/>
                  <a:pt x="1445" y="6671"/>
                  <a:pt x="1389" y="6548"/>
                </a:cubicBezTo>
                <a:cubicBezTo>
                  <a:pt x="1381" y="6523"/>
                  <a:pt x="1372" y="6499"/>
                  <a:pt x="1364" y="6474"/>
                </a:cubicBezTo>
                <a:cubicBezTo>
                  <a:pt x="1320" y="6562"/>
                  <a:pt x="1292" y="6624"/>
                  <a:pt x="1339" y="6722"/>
                </a:cubicBezTo>
                <a:cubicBezTo>
                  <a:pt x="1442" y="6934"/>
                  <a:pt x="1608" y="6802"/>
                  <a:pt x="1736" y="6697"/>
                </a:cubicBezTo>
                <a:cubicBezTo>
                  <a:pt x="1761" y="6672"/>
                  <a:pt x="1786" y="6648"/>
                  <a:pt x="1811" y="6623"/>
                </a:cubicBezTo>
              </a:path>
              <a:path w="1465" h="1068">
                <a:moveTo>
                  <a:pt x="1364" y="6796"/>
                </a:moveTo>
                <a:cubicBezTo>
                  <a:pt x="1442" y="6807"/>
                  <a:pt x="1427" y="6829"/>
                  <a:pt x="1488" y="687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40" y="2251080"/>
            <a:ext cx="1519200" cy="1170000"/>
          </a:xfrm>
          <a:custGeom>
            <a:avLst/>
            <a:gdLst/>
            <a:ahLst/>
            <a:rect l="l" t="t" r="r" b="b"/>
            <a:pathLst>
              <a:path w="4217" h="3250">
                <a:moveTo>
                  <a:pt x="372" y="9054"/>
                </a:moveTo>
                <a:cubicBezTo>
                  <a:pt x="297" y="8928"/>
                  <a:pt x="270" y="8886"/>
                  <a:pt x="149" y="8905"/>
                </a:cubicBezTo>
                <a:cubicBezTo>
                  <a:pt x="106" y="8979"/>
                  <a:pt x="-34" y="9517"/>
                  <a:pt x="248" y="9500"/>
                </a:cubicBezTo>
                <a:cubicBezTo>
                  <a:pt x="306" y="9467"/>
                  <a:pt x="364" y="9434"/>
                  <a:pt x="422" y="9401"/>
                </a:cubicBezTo>
              </a:path>
              <a:path w="4217" h="3250">
                <a:moveTo>
                  <a:pt x="50" y="8632"/>
                </a:moveTo>
                <a:cubicBezTo>
                  <a:pt x="244" y="8820"/>
                  <a:pt x="437" y="9005"/>
                  <a:pt x="620" y="9203"/>
                </a:cubicBezTo>
              </a:path>
              <a:path w="4217" h="3250">
                <a:moveTo>
                  <a:pt x="546" y="8930"/>
                </a:moveTo>
                <a:cubicBezTo>
                  <a:pt x="641" y="8882"/>
                  <a:pt x="704" y="8812"/>
                  <a:pt x="794" y="8756"/>
                </a:cubicBezTo>
                <a:cubicBezTo>
                  <a:pt x="697" y="8689"/>
                  <a:pt x="591" y="8610"/>
                  <a:pt x="571" y="8781"/>
                </a:cubicBezTo>
                <a:cubicBezTo>
                  <a:pt x="539" y="9054"/>
                  <a:pt x="680" y="9096"/>
                  <a:pt x="893" y="9054"/>
                </a:cubicBezTo>
              </a:path>
              <a:path w="4217" h="3250">
                <a:moveTo>
                  <a:pt x="943" y="8657"/>
                </a:moveTo>
                <a:cubicBezTo>
                  <a:pt x="1013" y="8751"/>
                  <a:pt x="1033" y="8779"/>
                  <a:pt x="1091" y="8830"/>
                </a:cubicBezTo>
                <a:cubicBezTo>
                  <a:pt x="1052" y="8778"/>
                  <a:pt x="896" y="8579"/>
                  <a:pt x="967" y="8558"/>
                </a:cubicBezTo>
                <a:cubicBezTo>
                  <a:pt x="1188" y="8492"/>
                  <a:pt x="1271" y="8639"/>
                  <a:pt x="1364" y="8806"/>
                </a:cubicBezTo>
              </a:path>
              <a:path w="4217" h="3250">
                <a:moveTo>
                  <a:pt x="1290" y="8359"/>
                </a:moveTo>
                <a:cubicBezTo>
                  <a:pt x="1297" y="8481"/>
                  <a:pt x="1311" y="8549"/>
                  <a:pt x="1364" y="8657"/>
                </a:cubicBezTo>
                <a:cubicBezTo>
                  <a:pt x="1431" y="8468"/>
                  <a:pt x="1438" y="8369"/>
                  <a:pt x="1215" y="8310"/>
                </a:cubicBezTo>
                <a:cubicBezTo>
                  <a:pt x="1199" y="8310"/>
                  <a:pt x="1182" y="8310"/>
                  <a:pt x="1166" y="8310"/>
                </a:cubicBezTo>
              </a:path>
              <a:path w="4217" h="3250">
                <a:moveTo>
                  <a:pt x="1439" y="8334"/>
                </a:moveTo>
                <a:cubicBezTo>
                  <a:pt x="1584" y="8482"/>
                  <a:pt x="1241" y="8144"/>
                  <a:pt x="1315" y="8086"/>
                </a:cubicBezTo>
                <a:cubicBezTo>
                  <a:pt x="1481" y="8086"/>
                  <a:pt x="1545" y="8095"/>
                  <a:pt x="1637" y="8186"/>
                </a:cubicBezTo>
                <a:cubicBezTo>
                  <a:pt x="1654" y="8202"/>
                  <a:pt x="1670" y="8219"/>
                  <a:pt x="1687" y="8235"/>
                </a:cubicBezTo>
                <a:cubicBezTo>
                  <a:pt x="1670" y="8216"/>
                  <a:pt x="1417" y="7957"/>
                  <a:pt x="1612" y="7962"/>
                </a:cubicBezTo>
                <a:cubicBezTo>
                  <a:pt x="1757" y="7966"/>
                  <a:pt x="1830" y="8065"/>
                  <a:pt x="1910" y="8161"/>
                </a:cubicBezTo>
              </a:path>
              <a:path w="4217" h="3250">
                <a:moveTo>
                  <a:pt x="1786" y="7813"/>
                </a:moveTo>
                <a:cubicBezTo>
                  <a:pt x="1860" y="7888"/>
                  <a:pt x="1935" y="7962"/>
                  <a:pt x="2009" y="8037"/>
                </a:cubicBezTo>
              </a:path>
              <a:path w="4217" h="3250">
                <a:moveTo>
                  <a:pt x="1712" y="7714"/>
                </a:moveTo>
                <a:lnTo>
                  <a:pt x="1712" y="7714"/>
                </a:lnTo>
              </a:path>
              <a:path w="4217" h="3250">
                <a:moveTo>
                  <a:pt x="2009" y="7689"/>
                </a:moveTo>
                <a:cubicBezTo>
                  <a:pt x="2093" y="7745"/>
                  <a:pt x="2127" y="7769"/>
                  <a:pt x="2183" y="7813"/>
                </a:cubicBezTo>
                <a:cubicBezTo>
                  <a:pt x="2132" y="7786"/>
                  <a:pt x="1900" y="7632"/>
                  <a:pt x="1960" y="7516"/>
                </a:cubicBezTo>
                <a:cubicBezTo>
                  <a:pt x="2075" y="7293"/>
                  <a:pt x="2327" y="7522"/>
                  <a:pt x="2406" y="7640"/>
                </a:cubicBezTo>
                <a:cubicBezTo>
                  <a:pt x="2414" y="7665"/>
                  <a:pt x="2423" y="7689"/>
                  <a:pt x="2431" y="7714"/>
                </a:cubicBezTo>
              </a:path>
              <a:path w="4217" h="3250">
                <a:moveTo>
                  <a:pt x="2456" y="7342"/>
                </a:moveTo>
                <a:cubicBezTo>
                  <a:pt x="2409" y="7250"/>
                  <a:pt x="2431" y="7263"/>
                  <a:pt x="2332" y="7243"/>
                </a:cubicBezTo>
                <a:cubicBezTo>
                  <a:pt x="2273" y="7369"/>
                  <a:pt x="2262" y="7565"/>
                  <a:pt x="2480" y="7565"/>
                </a:cubicBezTo>
                <a:cubicBezTo>
                  <a:pt x="2667" y="7565"/>
                  <a:pt x="2559" y="7393"/>
                  <a:pt x="2530" y="7317"/>
                </a:cubicBezTo>
                <a:cubicBezTo>
                  <a:pt x="2386" y="7251"/>
                  <a:pt x="2680" y="7340"/>
                  <a:pt x="2704" y="7342"/>
                </a:cubicBezTo>
              </a:path>
              <a:path w="4217" h="3250">
                <a:moveTo>
                  <a:pt x="2381" y="6896"/>
                </a:moveTo>
                <a:cubicBezTo>
                  <a:pt x="2538" y="6993"/>
                  <a:pt x="2688" y="7098"/>
                  <a:pt x="2828" y="7218"/>
                </a:cubicBezTo>
              </a:path>
              <a:path w="4217" h="3250">
                <a:moveTo>
                  <a:pt x="2406" y="7193"/>
                </a:moveTo>
                <a:cubicBezTo>
                  <a:pt x="2518" y="7089"/>
                  <a:pt x="2638" y="6996"/>
                  <a:pt x="2753" y="6896"/>
                </a:cubicBezTo>
                <a:cubicBezTo>
                  <a:pt x="2813" y="6978"/>
                  <a:pt x="2874" y="7187"/>
                  <a:pt x="3026" y="7119"/>
                </a:cubicBezTo>
                <a:cubicBezTo>
                  <a:pt x="3237" y="7024"/>
                  <a:pt x="3216" y="6779"/>
                  <a:pt x="3001" y="6722"/>
                </a:cubicBezTo>
                <a:cubicBezTo>
                  <a:pt x="2892" y="6722"/>
                  <a:pt x="2865" y="6717"/>
                  <a:pt x="2803" y="6747"/>
                </a:cubicBezTo>
              </a:path>
              <a:path w="4217" h="3250">
                <a:moveTo>
                  <a:pt x="3200" y="6722"/>
                </a:moveTo>
                <a:cubicBezTo>
                  <a:pt x="3225" y="6730"/>
                  <a:pt x="3249" y="6739"/>
                  <a:pt x="3274" y="6747"/>
                </a:cubicBezTo>
                <a:cubicBezTo>
                  <a:pt x="3206" y="6685"/>
                  <a:pt x="3064" y="6615"/>
                  <a:pt x="3125" y="6499"/>
                </a:cubicBezTo>
                <a:cubicBezTo>
                  <a:pt x="3200" y="6400"/>
                  <a:pt x="3225" y="6367"/>
                  <a:pt x="3274" y="6300"/>
                </a:cubicBezTo>
              </a:path>
              <a:path w="4217" h="3250">
                <a:moveTo>
                  <a:pt x="2853" y="6846"/>
                </a:moveTo>
                <a:cubicBezTo>
                  <a:pt x="2819" y="6812"/>
                  <a:pt x="2797" y="6803"/>
                  <a:pt x="2753" y="6821"/>
                </a:cubicBezTo>
                <a:cubicBezTo>
                  <a:pt x="2753" y="6882"/>
                  <a:pt x="2753" y="6920"/>
                  <a:pt x="2778" y="6970"/>
                </a:cubicBezTo>
              </a:path>
              <a:path w="4217" h="3250">
                <a:moveTo>
                  <a:pt x="3423" y="6251"/>
                </a:moveTo>
                <a:cubicBezTo>
                  <a:pt x="3401" y="6306"/>
                  <a:pt x="3325" y="6429"/>
                  <a:pt x="3398" y="6474"/>
                </a:cubicBezTo>
                <a:cubicBezTo>
                  <a:pt x="3406" y="6474"/>
                  <a:pt x="3415" y="6474"/>
                  <a:pt x="3423" y="6474"/>
                </a:cubicBezTo>
                <a:cubicBezTo>
                  <a:pt x="3500" y="6417"/>
                  <a:pt x="3522" y="6363"/>
                  <a:pt x="3621" y="6350"/>
                </a:cubicBezTo>
                <a:cubicBezTo>
                  <a:pt x="3663" y="6475"/>
                  <a:pt x="3660" y="6539"/>
                  <a:pt x="3572" y="6648"/>
                </a:cubicBezTo>
                <a:cubicBezTo>
                  <a:pt x="3498" y="6721"/>
                  <a:pt x="3474" y="6746"/>
                  <a:pt x="3398" y="6747"/>
                </a:cubicBezTo>
              </a:path>
              <a:path w="4217" h="3250">
                <a:moveTo>
                  <a:pt x="3845" y="6573"/>
                </a:moveTo>
                <a:cubicBezTo>
                  <a:pt x="3934" y="6560"/>
                  <a:pt x="4011" y="6535"/>
                  <a:pt x="4093" y="6499"/>
                </a:cubicBezTo>
              </a:path>
              <a:path w="4217" h="3250">
                <a:moveTo>
                  <a:pt x="3944" y="6400"/>
                </a:moveTo>
                <a:cubicBezTo>
                  <a:pt x="4067" y="6412"/>
                  <a:pt x="4159" y="6440"/>
                  <a:pt x="4266" y="6499"/>
                </a:cubicBezTo>
                <a:cubicBezTo>
                  <a:pt x="4214" y="6590"/>
                  <a:pt x="4126" y="6651"/>
                  <a:pt x="4043" y="672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760" y="2901960"/>
            <a:ext cx="768240" cy="750960"/>
          </a:xfrm>
          <a:custGeom>
            <a:avLst/>
            <a:gdLst/>
            <a:ahLst/>
            <a:rect l="l" t="t" r="r" b="b"/>
            <a:pathLst>
              <a:path w="2134" h="2084">
                <a:moveTo>
                  <a:pt x="1215" y="9376"/>
                </a:moveTo>
                <a:cubicBezTo>
                  <a:pt x="1186" y="9509"/>
                  <a:pt x="1092" y="9620"/>
                  <a:pt x="1116" y="9773"/>
                </a:cubicBezTo>
                <a:cubicBezTo>
                  <a:pt x="1136" y="9900"/>
                  <a:pt x="1231" y="10098"/>
                  <a:pt x="1364" y="10145"/>
                </a:cubicBezTo>
                <a:cubicBezTo>
                  <a:pt x="1416" y="10145"/>
                  <a:pt x="1434" y="10144"/>
                  <a:pt x="1463" y="10120"/>
                </a:cubicBezTo>
              </a:path>
              <a:path w="2134" h="2084">
                <a:moveTo>
                  <a:pt x="1588" y="9475"/>
                </a:moveTo>
                <a:cubicBezTo>
                  <a:pt x="1494" y="9569"/>
                  <a:pt x="1493" y="9641"/>
                  <a:pt x="1488" y="9773"/>
                </a:cubicBezTo>
                <a:cubicBezTo>
                  <a:pt x="1488" y="9790"/>
                  <a:pt x="1488" y="9806"/>
                  <a:pt x="1488" y="9823"/>
                </a:cubicBezTo>
                <a:cubicBezTo>
                  <a:pt x="1646" y="9838"/>
                  <a:pt x="1640" y="9719"/>
                  <a:pt x="1786" y="9674"/>
                </a:cubicBezTo>
                <a:cubicBezTo>
                  <a:pt x="1811" y="9674"/>
                  <a:pt x="1835" y="9674"/>
                  <a:pt x="1860" y="9674"/>
                </a:cubicBezTo>
                <a:cubicBezTo>
                  <a:pt x="1980" y="9704"/>
                  <a:pt x="1886" y="9864"/>
                  <a:pt x="1836" y="9922"/>
                </a:cubicBezTo>
                <a:cubicBezTo>
                  <a:pt x="1748" y="9987"/>
                  <a:pt x="1730" y="10007"/>
                  <a:pt x="1662" y="10021"/>
                </a:cubicBezTo>
              </a:path>
              <a:path w="2134" h="2084">
                <a:moveTo>
                  <a:pt x="2059" y="9252"/>
                </a:moveTo>
                <a:cubicBezTo>
                  <a:pt x="1946" y="9268"/>
                  <a:pt x="1875" y="9247"/>
                  <a:pt x="1836" y="9351"/>
                </a:cubicBezTo>
                <a:cubicBezTo>
                  <a:pt x="1812" y="9446"/>
                  <a:pt x="1801" y="9476"/>
                  <a:pt x="1860" y="9525"/>
                </a:cubicBezTo>
                <a:cubicBezTo>
                  <a:pt x="1952" y="9525"/>
                  <a:pt x="2244" y="9504"/>
                  <a:pt x="2108" y="9327"/>
                </a:cubicBezTo>
                <a:cubicBezTo>
                  <a:pt x="2052" y="9289"/>
                  <a:pt x="2006" y="9272"/>
                  <a:pt x="2059" y="9277"/>
                </a:cubicBezTo>
                <a:cubicBezTo>
                  <a:pt x="2188" y="9333"/>
                  <a:pt x="2182" y="9371"/>
                  <a:pt x="2208" y="9252"/>
                </a:cubicBezTo>
              </a:path>
              <a:path w="2134" h="2084">
                <a:moveTo>
                  <a:pt x="2108" y="9128"/>
                </a:moveTo>
                <a:cubicBezTo>
                  <a:pt x="2178" y="9128"/>
                  <a:pt x="2213" y="9137"/>
                  <a:pt x="2257" y="9178"/>
                </a:cubicBezTo>
                <a:cubicBezTo>
                  <a:pt x="2194" y="9132"/>
                  <a:pt x="1942" y="8998"/>
                  <a:pt x="2133" y="8905"/>
                </a:cubicBezTo>
                <a:cubicBezTo>
                  <a:pt x="2265" y="8841"/>
                  <a:pt x="2365" y="8925"/>
                  <a:pt x="2480" y="8979"/>
                </a:cubicBezTo>
                <a:cubicBezTo>
                  <a:pt x="2325" y="8932"/>
                  <a:pt x="2270" y="8849"/>
                  <a:pt x="2208" y="8706"/>
                </a:cubicBezTo>
                <a:cubicBezTo>
                  <a:pt x="2391" y="8697"/>
                  <a:pt x="2483" y="8735"/>
                  <a:pt x="2629" y="8855"/>
                </a:cubicBezTo>
              </a:path>
              <a:path w="2134" h="2084">
                <a:moveTo>
                  <a:pt x="2580" y="8607"/>
                </a:moveTo>
                <a:cubicBezTo>
                  <a:pt x="2619" y="8529"/>
                  <a:pt x="2615" y="8534"/>
                  <a:pt x="2679" y="8483"/>
                </a:cubicBezTo>
                <a:cubicBezTo>
                  <a:pt x="2613" y="8450"/>
                  <a:pt x="2556" y="8394"/>
                  <a:pt x="2505" y="8483"/>
                </a:cubicBezTo>
                <a:cubicBezTo>
                  <a:pt x="2450" y="8578"/>
                  <a:pt x="2464" y="8695"/>
                  <a:pt x="2555" y="8756"/>
                </a:cubicBezTo>
                <a:cubicBezTo>
                  <a:pt x="2710" y="8860"/>
                  <a:pt x="2797" y="8701"/>
                  <a:pt x="2877" y="8607"/>
                </a:cubicBezTo>
                <a:cubicBezTo>
                  <a:pt x="2928" y="8557"/>
                  <a:pt x="2945" y="8539"/>
                  <a:pt x="2927" y="8483"/>
                </a:cubicBezTo>
              </a:path>
              <a:path w="2134" h="2084">
                <a:moveTo>
                  <a:pt x="2133" y="8161"/>
                </a:moveTo>
                <a:cubicBezTo>
                  <a:pt x="2367" y="8077"/>
                  <a:pt x="2579" y="8047"/>
                  <a:pt x="2828" y="8086"/>
                </a:cubicBezTo>
                <a:cubicBezTo>
                  <a:pt x="3039" y="8119"/>
                  <a:pt x="3248" y="8241"/>
                  <a:pt x="3249" y="8483"/>
                </a:cubicBezTo>
                <a:cubicBezTo>
                  <a:pt x="3241" y="8516"/>
                  <a:pt x="3233" y="8549"/>
                  <a:pt x="3225" y="85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97000" y="874800"/>
            <a:ext cx="517680" cy="268200"/>
          </a:xfrm>
          <a:custGeom>
            <a:avLst/>
            <a:gdLst/>
            <a:ahLst/>
            <a:rect l="l" t="t" r="r" b="b"/>
            <a:pathLst>
              <a:path w="1439" h="745">
                <a:moveTo>
                  <a:pt x="3473" y="2505"/>
                </a:moveTo>
                <a:cubicBezTo>
                  <a:pt x="3393" y="2674"/>
                  <a:pt x="3369" y="2845"/>
                  <a:pt x="3324" y="3026"/>
                </a:cubicBezTo>
                <a:cubicBezTo>
                  <a:pt x="3355" y="2875"/>
                  <a:pt x="3358" y="2549"/>
                  <a:pt x="3522" y="2456"/>
                </a:cubicBezTo>
                <a:cubicBezTo>
                  <a:pt x="3547" y="2448"/>
                  <a:pt x="3572" y="2439"/>
                  <a:pt x="3597" y="2431"/>
                </a:cubicBezTo>
                <a:cubicBezTo>
                  <a:pt x="3738" y="2636"/>
                  <a:pt x="3745" y="2851"/>
                  <a:pt x="3671" y="3101"/>
                </a:cubicBezTo>
                <a:cubicBezTo>
                  <a:pt x="3654" y="3126"/>
                  <a:pt x="3638" y="3150"/>
                  <a:pt x="3621" y="3175"/>
                </a:cubicBezTo>
              </a:path>
              <a:path w="1439" h="745">
                <a:moveTo>
                  <a:pt x="3473" y="2853"/>
                </a:moveTo>
                <a:cubicBezTo>
                  <a:pt x="3531" y="2853"/>
                  <a:pt x="3588" y="2853"/>
                  <a:pt x="3646" y="2853"/>
                </a:cubicBezTo>
              </a:path>
              <a:path w="1439" h="745">
                <a:moveTo>
                  <a:pt x="4167" y="3026"/>
                </a:moveTo>
                <a:cubicBezTo>
                  <a:pt x="4167" y="2940"/>
                  <a:pt x="4179" y="2762"/>
                  <a:pt x="4018" y="2803"/>
                </a:cubicBezTo>
                <a:cubicBezTo>
                  <a:pt x="3862" y="2843"/>
                  <a:pt x="3827" y="2931"/>
                  <a:pt x="3795" y="3051"/>
                </a:cubicBezTo>
                <a:cubicBezTo>
                  <a:pt x="3940" y="3159"/>
                  <a:pt x="3944" y="3125"/>
                  <a:pt x="4118" y="3051"/>
                </a:cubicBezTo>
              </a:path>
              <a:path w="1439" h="745">
                <a:moveTo>
                  <a:pt x="4167" y="2431"/>
                </a:moveTo>
                <a:cubicBezTo>
                  <a:pt x="4148" y="2639"/>
                  <a:pt x="4142" y="2841"/>
                  <a:pt x="4142" y="3051"/>
                </a:cubicBezTo>
              </a:path>
              <a:path w="1439" h="745">
                <a:moveTo>
                  <a:pt x="4738" y="3026"/>
                </a:moveTo>
                <a:cubicBezTo>
                  <a:pt x="4730" y="2920"/>
                  <a:pt x="4713" y="2871"/>
                  <a:pt x="4663" y="2778"/>
                </a:cubicBezTo>
                <a:cubicBezTo>
                  <a:pt x="4453" y="2778"/>
                  <a:pt x="4392" y="2887"/>
                  <a:pt x="4316" y="3076"/>
                </a:cubicBezTo>
                <a:cubicBezTo>
                  <a:pt x="4566" y="3173"/>
                  <a:pt x="4556" y="3103"/>
                  <a:pt x="4762" y="2927"/>
                </a:cubicBezTo>
              </a:path>
              <a:path w="1439" h="745">
                <a:moveTo>
                  <a:pt x="4688" y="2480"/>
                </a:moveTo>
                <a:cubicBezTo>
                  <a:pt x="4699" y="2648"/>
                  <a:pt x="4708" y="2809"/>
                  <a:pt x="4713" y="297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28880" y="884160"/>
            <a:ext cx="1527120" cy="258840"/>
          </a:xfrm>
          <a:custGeom>
            <a:avLst/>
            <a:gdLst/>
            <a:ahLst/>
            <a:rect l="l" t="t" r="r" b="b"/>
            <a:pathLst>
              <a:path w="4242" h="720">
                <a:moveTo>
                  <a:pt x="5432" y="2704"/>
                </a:moveTo>
                <a:cubicBezTo>
                  <a:pt x="5422" y="2758"/>
                  <a:pt x="5376" y="3118"/>
                  <a:pt x="5358" y="3101"/>
                </a:cubicBezTo>
                <a:cubicBezTo>
                  <a:pt x="5385" y="2967"/>
                  <a:pt x="5360" y="2623"/>
                  <a:pt x="5556" y="2629"/>
                </a:cubicBezTo>
                <a:cubicBezTo>
                  <a:pt x="5797" y="2636"/>
                  <a:pt x="5725" y="3016"/>
                  <a:pt x="5705" y="3150"/>
                </a:cubicBezTo>
              </a:path>
              <a:path w="4242" h="720">
                <a:moveTo>
                  <a:pt x="5804" y="2828"/>
                </a:moveTo>
                <a:cubicBezTo>
                  <a:pt x="5804" y="3078"/>
                  <a:pt x="5831" y="3275"/>
                  <a:pt x="6052" y="2952"/>
                </a:cubicBezTo>
                <a:cubicBezTo>
                  <a:pt x="6069" y="2911"/>
                  <a:pt x="6085" y="2869"/>
                  <a:pt x="6102" y="2828"/>
                </a:cubicBezTo>
                <a:cubicBezTo>
                  <a:pt x="6099" y="2910"/>
                  <a:pt x="6171" y="3448"/>
                  <a:pt x="6300" y="3076"/>
                </a:cubicBezTo>
                <a:cubicBezTo>
                  <a:pt x="6349" y="2934"/>
                  <a:pt x="6332" y="2780"/>
                  <a:pt x="6300" y="2927"/>
                </a:cubicBezTo>
                <a:cubicBezTo>
                  <a:pt x="6280" y="3051"/>
                  <a:pt x="6272" y="3075"/>
                  <a:pt x="6276" y="3150"/>
                </a:cubicBezTo>
                <a:cubicBezTo>
                  <a:pt x="6285" y="3102"/>
                  <a:pt x="6319" y="2622"/>
                  <a:pt x="6474" y="2778"/>
                </a:cubicBezTo>
                <a:cubicBezTo>
                  <a:pt x="6724" y="3028"/>
                  <a:pt x="6510" y="3102"/>
                  <a:pt x="6697" y="2729"/>
                </a:cubicBezTo>
                <a:cubicBezTo>
                  <a:pt x="6758" y="2607"/>
                  <a:pt x="6779" y="3067"/>
                  <a:pt x="6772" y="3125"/>
                </a:cubicBezTo>
              </a:path>
              <a:path w="4242" h="720">
                <a:moveTo>
                  <a:pt x="6871" y="2952"/>
                </a:moveTo>
                <a:cubicBezTo>
                  <a:pt x="6953" y="2908"/>
                  <a:pt x="7023" y="2861"/>
                  <a:pt x="7094" y="2803"/>
                </a:cubicBezTo>
                <a:cubicBezTo>
                  <a:pt x="6990" y="2754"/>
                  <a:pt x="6588" y="2734"/>
                  <a:pt x="6747" y="3001"/>
                </a:cubicBezTo>
                <a:cubicBezTo>
                  <a:pt x="6797" y="3034"/>
                  <a:pt x="6846" y="3068"/>
                  <a:pt x="6896" y="3101"/>
                </a:cubicBezTo>
              </a:path>
              <a:path w="4242" h="720">
                <a:moveTo>
                  <a:pt x="7169" y="2927"/>
                </a:moveTo>
                <a:cubicBezTo>
                  <a:pt x="7169" y="2968"/>
                  <a:pt x="7169" y="3010"/>
                  <a:pt x="7169" y="3051"/>
                </a:cubicBezTo>
                <a:cubicBezTo>
                  <a:pt x="7201" y="2862"/>
                  <a:pt x="7178" y="2668"/>
                  <a:pt x="7367" y="2580"/>
                </a:cubicBezTo>
                <a:cubicBezTo>
                  <a:pt x="7375" y="2580"/>
                  <a:pt x="7384" y="2580"/>
                  <a:pt x="7392" y="2580"/>
                </a:cubicBezTo>
              </a:path>
              <a:path w="4242" h="720">
                <a:moveTo>
                  <a:pt x="7714" y="2778"/>
                </a:moveTo>
                <a:cubicBezTo>
                  <a:pt x="7609" y="2619"/>
                  <a:pt x="7513" y="2557"/>
                  <a:pt x="7392" y="2803"/>
                </a:cubicBezTo>
                <a:cubicBezTo>
                  <a:pt x="7348" y="2975"/>
                  <a:pt x="7316" y="3020"/>
                  <a:pt x="7417" y="3101"/>
                </a:cubicBezTo>
                <a:cubicBezTo>
                  <a:pt x="7613" y="3052"/>
                  <a:pt x="7613" y="3045"/>
                  <a:pt x="7689" y="2853"/>
                </a:cubicBezTo>
                <a:cubicBezTo>
                  <a:pt x="7700" y="3066"/>
                  <a:pt x="7869" y="3255"/>
                  <a:pt x="8012" y="2927"/>
                </a:cubicBezTo>
                <a:cubicBezTo>
                  <a:pt x="8091" y="2745"/>
                  <a:pt x="8054" y="2637"/>
                  <a:pt x="8037" y="2456"/>
                </a:cubicBezTo>
                <a:cubicBezTo>
                  <a:pt x="8012" y="2682"/>
                  <a:pt x="8164" y="3313"/>
                  <a:pt x="8037" y="3125"/>
                </a:cubicBezTo>
                <a:cubicBezTo>
                  <a:pt x="8029" y="3100"/>
                  <a:pt x="8020" y="3076"/>
                  <a:pt x="8012" y="3051"/>
                </a:cubicBezTo>
              </a:path>
              <a:path w="4242" h="720">
                <a:moveTo>
                  <a:pt x="7739" y="2654"/>
                </a:moveTo>
                <a:cubicBezTo>
                  <a:pt x="7965" y="2654"/>
                  <a:pt x="8188" y="2644"/>
                  <a:pt x="8409" y="2679"/>
                </a:cubicBezTo>
                <a:cubicBezTo>
                  <a:pt x="8345" y="2743"/>
                  <a:pt x="8023" y="2995"/>
                  <a:pt x="8285" y="3076"/>
                </a:cubicBezTo>
                <a:cubicBezTo>
                  <a:pt x="8653" y="3190"/>
                  <a:pt x="8779" y="2826"/>
                  <a:pt x="8483" y="2629"/>
                </a:cubicBezTo>
                <a:cubicBezTo>
                  <a:pt x="8352" y="2592"/>
                  <a:pt x="8337" y="2575"/>
                  <a:pt x="8260" y="2580"/>
                </a:cubicBezTo>
              </a:path>
              <a:path w="4242" h="720">
                <a:moveTo>
                  <a:pt x="8855" y="2952"/>
                </a:moveTo>
                <a:cubicBezTo>
                  <a:pt x="8855" y="2968"/>
                  <a:pt x="8855" y="2985"/>
                  <a:pt x="8855" y="3001"/>
                </a:cubicBezTo>
                <a:cubicBezTo>
                  <a:pt x="8891" y="2842"/>
                  <a:pt x="8948" y="2684"/>
                  <a:pt x="9004" y="2530"/>
                </a:cubicBezTo>
              </a:path>
              <a:path w="4242" h="720">
                <a:moveTo>
                  <a:pt x="9401" y="2604"/>
                </a:moveTo>
                <a:cubicBezTo>
                  <a:pt x="9280" y="2677"/>
                  <a:pt x="9242" y="2701"/>
                  <a:pt x="9153" y="2729"/>
                </a:cubicBezTo>
                <a:cubicBezTo>
                  <a:pt x="9242" y="2751"/>
                  <a:pt x="9749" y="2835"/>
                  <a:pt x="9525" y="2952"/>
                </a:cubicBezTo>
                <a:cubicBezTo>
                  <a:pt x="9467" y="2968"/>
                  <a:pt x="9409" y="2985"/>
                  <a:pt x="9351" y="3001"/>
                </a:cubicBezTo>
              </a:path>
              <a:path w="4242" h="720">
                <a:moveTo>
                  <a:pt x="8855" y="2629"/>
                </a:moveTo>
                <a:cubicBezTo>
                  <a:pt x="8817" y="2686"/>
                  <a:pt x="8791" y="2831"/>
                  <a:pt x="8781" y="29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1000" y="1197000"/>
            <a:ext cx="3151080" cy="384120"/>
          </a:xfrm>
          <a:custGeom>
            <a:avLst/>
            <a:gdLst/>
            <a:ahLst/>
            <a:rect l="l" t="t" r="r" b="b"/>
            <a:pathLst>
              <a:path w="8757" h="1067">
                <a:moveTo>
                  <a:pt x="3845" y="4217"/>
                </a:moveTo>
                <a:cubicBezTo>
                  <a:pt x="3831" y="4124"/>
                  <a:pt x="3759" y="3768"/>
                  <a:pt x="3572" y="3919"/>
                </a:cubicBezTo>
                <a:cubicBezTo>
                  <a:pt x="3426" y="4037"/>
                  <a:pt x="3491" y="4201"/>
                  <a:pt x="3522" y="4341"/>
                </a:cubicBezTo>
                <a:cubicBezTo>
                  <a:pt x="3838" y="4227"/>
                  <a:pt x="3881" y="4151"/>
                  <a:pt x="3870" y="3820"/>
                </a:cubicBezTo>
              </a:path>
              <a:path w="8757" h="1067">
                <a:moveTo>
                  <a:pt x="3770" y="3621"/>
                </a:moveTo>
                <a:cubicBezTo>
                  <a:pt x="3796" y="3832"/>
                  <a:pt x="3828" y="4034"/>
                  <a:pt x="3870" y="4242"/>
                </a:cubicBezTo>
              </a:path>
              <a:path w="8757" h="1067">
                <a:moveTo>
                  <a:pt x="4068" y="4043"/>
                </a:moveTo>
                <a:cubicBezTo>
                  <a:pt x="4184" y="4024"/>
                  <a:pt x="4286" y="4025"/>
                  <a:pt x="4316" y="3919"/>
                </a:cubicBezTo>
                <a:cubicBezTo>
                  <a:pt x="4170" y="3853"/>
                  <a:pt x="4027" y="3851"/>
                  <a:pt x="4093" y="4068"/>
                </a:cubicBezTo>
                <a:cubicBezTo>
                  <a:pt x="4143" y="4234"/>
                  <a:pt x="4312" y="4140"/>
                  <a:pt x="4415" y="4118"/>
                </a:cubicBezTo>
              </a:path>
              <a:path w="8757" h="1067">
                <a:moveTo>
                  <a:pt x="4514" y="3845"/>
                </a:moveTo>
                <a:cubicBezTo>
                  <a:pt x="4561" y="3954"/>
                  <a:pt x="4564" y="4018"/>
                  <a:pt x="4564" y="4142"/>
                </a:cubicBezTo>
                <a:cubicBezTo>
                  <a:pt x="4552" y="4069"/>
                  <a:pt x="4536" y="3823"/>
                  <a:pt x="4663" y="3795"/>
                </a:cubicBezTo>
                <a:cubicBezTo>
                  <a:pt x="4844" y="3756"/>
                  <a:pt x="4865" y="4067"/>
                  <a:pt x="4887" y="4167"/>
                </a:cubicBezTo>
              </a:path>
              <a:path w="8757" h="1067">
                <a:moveTo>
                  <a:pt x="5135" y="3919"/>
                </a:moveTo>
                <a:cubicBezTo>
                  <a:pt x="4983" y="3902"/>
                  <a:pt x="4962" y="4003"/>
                  <a:pt x="4936" y="4142"/>
                </a:cubicBezTo>
                <a:cubicBezTo>
                  <a:pt x="5030" y="4168"/>
                  <a:pt x="5384" y="4211"/>
                  <a:pt x="5259" y="3969"/>
                </a:cubicBezTo>
                <a:cubicBezTo>
                  <a:pt x="5172" y="3903"/>
                  <a:pt x="5153" y="3883"/>
                  <a:pt x="5085" y="3870"/>
                </a:cubicBezTo>
              </a:path>
              <a:path w="8757" h="1067">
                <a:moveTo>
                  <a:pt x="5308" y="3870"/>
                </a:moveTo>
                <a:cubicBezTo>
                  <a:pt x="5330" y="3958"/>
                  <a:pt x="5368" y="4035"/>
                  <a:pt x="5407" y="4118"/>
                </a:cubicBezTo>
                <a:cubicBezTo>
                  <a:pt x="5407" y="4070"/>
                  <a:pt x="5383" y="3733"/>
                  <a:pt x="5531" y="3795"/>
                </a:cubicBezTo>
                <a:cubicBezTo>
                  <a:pt x="5636" y="3838"/>
                  <a:pt x="5681" y="3977"/>
                  <a:pt x="5705" y="4068"/>
                </a:cubicBezTo>
                <a:cubicBezTo>
                  <a:pt x="5699" y="3934"/>
                  <a:pt x="5750" y="3658"/>
                  <a:pt x="5879" y="3944"/>
                </a:cubicBezTo>
                <a:cubicBezTo>
                  <a:pt x="5901" y="4052"/>
                  <a:pt x="5904" y="4078"/>
                  <a:pt x="5928" y="4142"/>
                </a:cubicBezTo>
              </a:path>
              <a:path w="8757" h="1067">
                <a:moveTo>
                  <a:pt x="6052" y="3870"/>
                </a:moveTo>
                <a:cubicBezTo>
                  <a:pt x="6059" y="3950"/>
                  <a:pt x="6075" y="4018"/>
                  <a:pt x="6102" y="4093"/>
                </a:cubicBezTo>
              </a:path>
              <a:path w="8757" h="1067">
                <a:moveTo>
                  <a:pt x="6028" y="3721"/>
                </a:moveTo>
                <a:lnTo>
                  <a:pt x="6028" y="3721"/>
                </a:lnTo>
              </a:path>
              <a:path w="8757" h="1067">
                <a:moveTo>
                  <a:pt x="6201" y="3994"/>
                </a:moveTo>
                <a:cubicBezTo>
                  <a:pt x="6218" y="4019"/>
                  <a:pt x="6234" y="4043"/>
                  <a:pt x="6251" y="4068"/>
                </a:cubicBezTo>
                <a:cubicBezTo>
                  <a:pt x="6223" y="3990"/>
                  <a:pt x="6141" y="3788"/>
                  <a:pt x="6300" y="3770"/>
                </a:cubicBezTo>
                <a:cubicBezTo>
                  <a:pt x="6498" y="3747"/>
                  <a:pt x="6533" y="3980"/>
                  <a:pt x="6573" y="4118"/>
                </a:cubicBezTo>
              </a:path>
              <a:path w="8757" h="1067">
                <a:moveTo>
                  <a:pt x="6921" y="3944"/>
                </a:moveTo>
                <a:cubicBezTo>
                  <a:pt x="6868" y="3819"/>
                  <a:pt x="6815" y="3712"/>
                  <a:pt x="6672" y="3820"/>
                </a:cubicBezTo>
                <a:cubicBezTo>
                  <a:pt x="6513" y="3941"/>
                  <a:pt x="6527" y="4188"/>
                  <a:pt x="6772" y="4093"/>
                </a:cubicBezTo>
                <a:cubicBezTo>
                  <a:pt x="6845" y="4020"/>
                  <a:pt x="6869" y="3997"/>
                  <a:pt x="6846" y="3919"/>
                </a:cubicBezTo>
                <a:cubicBezTo>
                  <a:pt x="6812" y="3885"/>
                  <a:pt x="6803" y="3890"/>
                  <a:pt x="6821" y="3969"/>
                </a:cubicBezTo>
                <a:cubicBezTo>
                  <a:pt x="6932" y="4098"/>
                  <a:pt x="6901" y="4116"/>
                  <a:pt x="7045" y="4068"/>
                </a:cubicBezTo>
              </a:path>
              <a:path w="8757" h="1067">
                <a:moveTo>
                  <a:pt x="7020" y="3597"/>
                </a:moveTo>
                <a:cubicBezTo>
                  <a:pt x="7032" y="3785"/>
                  <a:pt x="7077" y="3958"/>
                  <a:pt x="7119" y="4142"/>
                </a:cubicBezTo>
              </a:path>
              <a:path w="8757" h="1067">
                <a:moveTo>
                  <a:pt x="6921" y="3795"/>
                </a:moveTo>
                <a:cubicBezTo>
                  <a:pt x="7056" y="3777"/>
                  <a:pt x="7181" y="3770"/>
                  <a:pt x="7317" y="3770"/>
                </a:cubicBezTo>
                <a:cubicBezTo>
                  <a:pt x="7283" y="3878"/>
                  <a:pt x="7194" y="4115"/>
                  <a:pt x="7417" y="4068"/>
                </a:cubicBezTo>
                <a:cubicBezTo>
                  <a:pt x="7629" y="4024"/>
                  <a:pt x="7558" y="3853"/>
                  <a:pt x="7466" y="3746"/>
                </a:cubicBezTo>
                <a:cubicBezTo>
                  <a:pt x="7450" y="3729"/>
                  <a:pt x="7433" y="3713"/>
                  <a:pt x="7417" y="3696"/>
                </a:cubicBezTo>
              </a:path>
              <a:path w="8757" h="1067">
                <a:moveTo>
                  <a:pt x="7689" y="3919"/>
                </a:moveTo>
                <a:cubicBezTo>
                  <a:pt x="7697" y="3944"/>
                  <a:pt x="7706" y="3969"/>
                  <a:pt x="7714" y="3994"/>
                </a:cubicBezTo>
                <a:cubicBezTo>
                  <a:pt x="7714" y="3850"/>
                  <a:pt x="7696" y="3761"/>
                  <a:pt x="7838" y="3696"/>
                </a:cubicBezTo>
                <a:cubicBezTo>
                  <a:pt x="7919" y="3669"/>
                  <a:pt x="7951" y="3661"/>
                  <a:pt x="8012" y="3671"/>
                </a:cubicBezTo>
              </a:path>
              <a:path w="8757" h="1067">
                <a:moveTo>
                  <a:pt x="8136" y="3721"/>
                </a:moveTo>
                <a:cubicBezTo>
                  <a:pt x="8077" y="3738"/>
                  <a:pt x="8019" y="3766"/>
                  <a:pt x="7962" y="3795"/>
                </a:cubicBezTo>
                <a:cubicBezTo>
                  <a:pt x="8014" y="3834"/>
                  <a:pt x="8293" y="3946"/>
                  <a:pt x="8210" y="4018"/>
                </a:cubicBezTo>
                <a:cubicBezTo>
                  <a:pt x="8106" y="4053"/>
                  <a:pt x="8049" y="4062"/>
                  <a:pt x="7962" y="4043"/>
                </a:cubicBezTo>
              </a:path>
              <a:path w="8757" h="1067">
                <a:moveTo>
                  <a:pt x="8905" y="3721"/>
                </a:moveTo>
                <a:cubicBezTo>
                  <a:pt x="8818" y="3764"/>
                  <a:pt x="8794" y="3771"/>
                  <a:pt x="8756" y="3820"/>
                </a:cubicBezTo>
                <a:cubicBezTo>
                  <a:pt x="8888" y="3864"/>
                  <a:pt x="8988" y="3865"/>
                  <a:pt x="9079" y="3969"/>
                </a:cubicBezTo>
                <a:cubicBezTo>
                  <a:pt x="8953" y="4027"/>
                  <a:pt x="8894" y="4033"/>
                  <a:pt x="8756" y="4018"/>
                </a:cubicBezTo>
              </a:path>
              <a:path w="8757" h="1067">
                <a:moveTo>
                  <a:pt x="9203" y="3547"/>
                </a:moveTo>
                <a:cubicBezTo>
                  <a:pt x="9276" y="3695"/>
                  <a:pt x="9342" y="3840"/>
                  <a:pt x="9401" y="3994"/>
                </a:cubicBezTo>
              </a:path>
              <a:path w="8757" h="1067">
                <a:moveTo>
                  <a:pt x="9128" y="3696"/>
                </a:moveTo>
                <a:cubicBezTo>
                  <a:pt x="9343" y="3696"/>
                  <a:pt x="9558" y="3696"/>
                  <a:pt x="9773" y="3696"/>
                </a:cubicBezTo>
                <a:cubicBezTo>
                  <a:pt x="9601" y="3758"/>
                  <a:pt x="9562" y="3821"/>
                  <a:pt x="9575" y="3994"/>
                </a:cubicBezTo>
                <a:cubicBezTo>
                  <a:pt x="9712" y="3966"/>
                  <a:pt x="9767" y="3844"/>
                  <a:pt x="9798" y="3870"/>
                </a:cubicBezTo>
                <a:cubicBezTo>
                  <a:pt x="9839" y="3911"/>
                  <a:pt x="9847" y="3919"/>
                  <a:pt x="9872" y="3944"/>
                </a:cubicBezTo>
                <a:cubicBezTo>
                  <a:pt x="10067" y="3749"/>
                  <a:pt x="9905" y="3930"/>
                  <a:pt x="10096" y="3894"/>
                </a:cubicBezTo>
                <a:cubicBezTo>
                  <a:pt x="10155" y="3835"/>
                  <a:pt x="10177" y="3806"/>
                  <a:pt x="10195" y="3746"/>
                </a:cubicBezTo>
                <a:cubicBezTo>
                  <a:pt x="10195" y="3961"/>
                  <a:pt x="10195" y="4175"/>
                  <a:pt x="10195" y="4390"/>
                </a:cubicBezTo>
              </a:path>
              <a:path w="8757" h="1067">
                <a:moveTo>
                  <a:pt x="10592" y="3547"/>
                </a:moveTo>
                <a:cubicBezTo>
                  <a:pt x="10520" y="3571"/>
                  <a:pt x="10497" y="3577"/>
                  <a:pt x="10468" y="3621"/>
                </a:cubicBezTo>
                <a:cubicBezTo>
                  <a:pt x="10539" y="3730"/>
                  <a:pt x="10669" y="3755"/>
                  <a:pt x="10716" y="3894"/>
                </a:cubicBezTo>
                <a:cubicBezTo>
                  <a:pt x="10605" y="3950"/>
                  <a:pt x="10559" y="3964"/>
                  <a:pt x="10468" y="3919"/>
                </a:cubicBezTo>
              </a:path>
              <a:path w="8757" h="1067">
                <a:moveTo>
                  <a:pt x="10864" y="3621"/>
                </a:moveTo>
                <a:cubicBezTo>
                  <a:pt x="10724" y="3724"/>
                  <a:pt x="10716" y="3724"/>
                  <a:pt x="10716" y="3894"/>
                </a:cubicBezTo>
                <a:cubicBezTo>
                  <a:pt x="10863" y="3907"/>
                  <a:pt x="10901" y="3868"/>
                  <a:pt x="10889" y="3721"/>
                </a:cubicBezTo>
                <a:cubicBezTo>
                  <a:pt x="10937" y="3811"/>
                  <a:pt x="11072" y="4098"/>
                  <a:pt x="11187" y="3870"/>
                </a:cubicBezTo>
                <a:cubicBezTo>
                  <a:pt x="11207" y="3769"/>
                  <a:pt x="11226" y="3749"/>
                  <a:pt x="11187" y="3696"/>
                </a:cubicBezTo>
                <a:cubicBezTo>
                  <a:pt x="11187" y="4053"/>
                  <a:pt x="11151" y="3664"/>
                  <a:pt x="11187" y="3646"/>
                </a:cubicBezTo>
                <a:cubicBezTo>
                  <a:pt x="11316" y="3581"/>
                  <a:pt x="11403" y="3834"/>
                  <a:pt x="11435" y="3894"/>
                </a:cubicBezTo>
                <a:cubicBezTo>
                  <a:pt x="11444" y="3762"/>
                  <a:pt x="11443" y="3411"/>
                  <a:pt x="11609" y="3696"/>
                </a:cubicBezTo>
                <a:cubicBezTo>
                  <a:pt x="11649" y="3819"/>
                  <a:pt x="11666" y="3841"/>
                  <a:pt x="11658" y="3919"/>
                </a:cubicBezTo>
              </a:path>
              <a:path w="8757" h="1067">
                <a:moveTo>
                  <a:pt x="11881" y="3671"/>
                </a:moveTo>
                <a:cubicBezTo>
                  <a:pt x="11962" y="3648"/>
                  <a:pt x="11994" y="3645"/>
                  <a:pt x="12055" y="3597"/>
                </a:cubicBezTo>
                <a:cubicBezTo>
                  <a:pt x="12032" y="3458"/>
                  <a:pt x="11817" y="3637"/>
                  <a:pt x="11782" y="3696"/>
                </a:cubicBezTo>
                <a:cubicBezTo>
                  <a:pt x="11608" y="3992"/>
                  <a:pt x="12109" y="3920"/>
                  <a:pt x="12229" y="3894"/>
                </a:cubicBezTo>
              </a:path>
              <a:path w="8757" h="1067">
                <a:moveTo>
                  <a:pt x="9575" y="3423"/>
                </a:moveTo>
                <a:cubicBezTo>
                  <a:pt x="9736" y="3369"/>
                  <a:pt x="9806" y="3366"/>
                  <a:pt x="9971" y="3373"/>
                </a:cubicBezTo>
                <a:cubicBezTo>
                  <a:pt x="10129" y="3380"/>
                  <a:pt x="10286" y="3394"/>
                  <a:pt x="10443" y="3398"/>
                </a:cubicBezTo>
                <a:cubicBezTo>
                  <a:pt x="10562" y="3401"/>
                  <a:pt x="10675" y="3418"/>
                  <a:pt x="10790" y="3423"/>
                </a:cubicBezTo>
                <a:cubicBezTo>
                  <a:pt x="10990" y="3431"/>
                  <a:pt x="11189" y="3414"/>
                  <a:pt x="11385" y="3398"/>
                </a:cubicBezTo>
                <a:cubicBezTo>
                  <a:pt x="11503" y="3389"/>
                  <a:pt x="11618" y="3401"/>
                  <a:pt x="11733" y="3373"/>
                </a:cubicBezTo>
                <a:cubicBezTo>
                  <a:pt x="11793" y="3358"/>
                  <a:pt x="11871" y="3332"/>
                  <a:pt x="11931" y="3324"/>
                </a:cubicBezTo>
                <a:cubicBezTo>
                  <a:pt x="11995" y="3316"/>
                  <a:pt x="12065" y="3324"/>
                  <a:pt x="12129" y="332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1120" y="1731960"/>
            <a:ext cx="2697120" cy="1839960"/>
          </a:xfrm>
          <a:custGeom>
            <a:avLst/>
            <a:gdLst/>
            <a:ahLst/>
            <a:rect l="l" t="t" r="r" b="b"/>
            <a:pathLst>
              <a:path w="7492" h="5111">
                <a:moveTo>
                  <a:pt x="7938" y="5978"/>
                </a:moveTo>
                <a:cubicBezTo>
                  <a:pt x="8019" y="5978"/>
                  <a:pt x="8086" y="5991"/>
                  <a:pt x="8161" y="6003"/>
                </a:cubicBezTo>
                <a:cubicBezTo>
                  <a:pt x="8261" y="6019"/>
                  <a:pt x="8374" y="5990"/>
                  <a:pt x="8458" y="5978"/>
                </a:cubicBezTo>
                <a:cubicBezTo>
                  <a:pt x="8614" y="5956"/>
                  <a:pt x="8779" y="6011"/>
                  <a:pt x="8930" y="5953"/>
                </a:cubicBezTo>
                <a:cubicBezTo>
                  <a:pt x="9019" y="5919"/>
                  <a:pt x="9106" y="5928"/>
                  <a:pt x="9203" y="5928"/>
                </a:cubicBezTo>
                <a:cubicBezTo>
                  <a:pt x="9283" y="5928"/>
                  <a:pt x="9311" y="5939"/>
                  <a:pt x="9376" y="5928"/>
                </a:cubicBezTo>
                <a:cubicBezTo>
                  <a:pt x="9384" y="5928"/>
                  <a:pt x="9393" y="5928"/>
                  <a:pt x="9401" y="5928"/>
                </a:cubicBezTo>
              </a:path>
              <a:path w="7492" h="5111">
                <a:moveTo>
                  <a:pt x="8359" y="6300"/>
                </a:moveTo>
                <a:cubicBezTo>
                  <a:pt x="8368" y="6467"/>
                  <a:pt x="8399" y="6630"/>
                  <a:pt x="8409" y="6796"/>
                </a:cubicBezTo>
              </a:path>
              <a:path w="7492" h="5111">
                <a:moveTo>
                  <a:pt x="8657" y="6375"/>
                </a:moveTo>
                <a:cubicBezTo>
                  <a:pt x="8674" y="6315"/>
                  <a:pt x="8687" y="6218"/>
                  <a:pt x="8756" y="6201"/>
                </a:cubicBezTo>
                <a:cubicBezTo>
                  <a:pt x="8830" y="6182"/>
                  <a:pt x="8851" y="6273"/>
                  <a:pt x="8855" y="6325"/>
                </a:cubicBezTo>
                <a:cubicBezTo>
                  <a:pt x="8861" y="6397"/>
                  <a:pt x="8804" y="6440"/>
                  <a:pt x="8756" y="6474"/>
                </a:cubicBezTo>
                <a:cubicBezTo>
                  <a:pt x="8790" y="6564"/>
                  <a:pt x="8774" y="6587"/>
                  <a:pt x="8731" y="6672"/>
                </a:cubicBezTo>
                <a:cubicBezTo>
                  <a:pt x="8703" y="6728"/>
                  <a:pt x="8706" y="6735"/>
                  <a:pt x="8706" y="6796"/>
                </a:cubicBezTo>
                <a:cubicBezTo>
                  <a:pt x="8738" y="6727"/>
                  <a:pt x="8751" y="6701"/>
                  <a:pt x="8806" y="6648"/>
                </a:cubicBezTo>
                <a:cubicBezTo>
                  <a:pt x="8825" y="6682"/>
                  <a:pt x="8876" y="6804"/>
                  <a:pt x="8905" y="6821"/>
                </a:cubicBezTo>
                <a:cubicBezTo>
                  <a:pt x="8982" y="6865"/>
                  <a:pt x="9043" y="6767"/>
                  <a:pt x="9079" y="6722"/>
                </a:cubicBezTo>
              </a:path>
              <a:path w="7492" h="5111">
                <a:moveTo>
                  <a:pt x="8533" y="5234"/>
                </a:moveTo>
                <a:cubicBezTo>
                  <a:pt x="8473" y="5279"/>
                  <a:pt x="8456" y="5398"/>
                  <a:pt x="8434" y="5482"/>
                </a:cubicBezTo>
                <a:cubicBezTo>
                  <a:pt x="8408" y="5584"/>
                  <a:pt x="8384" y="5674"/>
                  <a:pt x="8384" y="5779"/>
                </a:cubicBezTo>
                <a:cubicBezTo>
                  <a:pt x="8384" y="5841"/>
                  <a:pt x="8505" y="5884"/>
                  <a:pt x="8558" y="5854"/>
                </a:cubicBezTo>
                <a:cubicBezTo>
                  <a:pt x="8633" y="5812"/>
                  <a:pt x="8801" y="5732"/>
                  <a:pt x="8806" y="5631"/>
                </a:cubicBezTo>
                <a:cubicBezTo>
                  <a:pt x="8809" y="5562"/>
                  <a:pt x="8750" y="5514"/>
                  <a:pt x="8706" y="5507"/>
                </a:cubicBezTo>
                <a:cubicBezTo>
                  <a:pt x="8613" y="5573"/>
                  <a:pt x="8641" y="5582"/>
                  <a:pt x="8657" y="5680"/>
                </a:cubicBezTo>
                <a:cubicBezTo>
                  <a:pt x="8668" y="5744"/>
                  <a:pt x="8681" y="5793"/>
                  <a:pt x="8706" y="5854"/>
                </a:cubicBezTo>
              </a:path>
              <a:path w="7492" h="5111">
                <a:moveTo>
                  <a:pt x="9128" y="5457"/>
                </a:moveTo>
                <a:cubicBezTo>
                  <a:pt x="9197" y="5411"/>
                  <a:pt x="9262" y="5377"/>
                  <a:pt x="9327" y="5333"/>
                </a:cubicBezTo>
              </a:path>
              <a:path w="7492" h="5111">
                <a:moveTo>
                  <a:pt x="9227" y="5209"/>
                </a:moveTo>
                <a:lnTo>
                  <a:pt x="9227" y="5209"/>
                </a:lnTo>
              </a:path>
              <a:path w="7492" h="5111">
                <a:moveTo>
                  <a:pt x="9401" y="5631"/>
                </a:moveTo>
                <a:lnTo>
                  <a:pt x="9401" y="5631"/>
                </a:lnTo>
              </a:path>
              <a:path w="7492" h="5111">
                <a:moveTo>
                  <a:pt x="9302" y="6573"/>
                </a:moveTo>
                <a:cubicBezTo>
                  <a:pt x="9385" y="6585"/>
                  <a:pt x="9467" y="6611"/>
                  <a:pt x="9550" y="6623"/>
                </a:cubicBezTo>
              </a:path>
              <a:path w="7492" h="5111">
                <a:moveTo>
                  <a:pt x="9426" y="6375"/>
                </a:moveTo>
                <a:lnTo>
                  <a:pt x="9426" y="6375"/>
                </a:lnTo>
              </a:path>
              <a:path w="7492" h="5111">
                <a:moveTo>
                  <a:pt x="9475" y="6821"/>
                </a:moveTo>
                <a:lnTo>
                  <a:pt x="9475" y="6821"/>
                </a:lnTo>
              </a:path>
              <a:path w="7492" h="5111">
                <a:moveTo>
                  <a:pt x="9376" y="5358"/>
                </a:moveTo>
                <a:cubicBezTo>
                  <a:pt x="9418" y="5316"/>
                  <a:pt x="9426" y="5308"/>
                  <a:pt x="9451" y="5283"/>
                </a:cubicBezTo>
              </a:path>
              <a:path w="7492" h="5111">
                <a:moveTo>
                  <a:pt x="9773" y="5035"/>
                </a:moveTo>
                <a:cubicBezTo>
                  <a:pt x="9758" y="5126"/>
                  <a:pt x="9683" y="5377"/>
                  <a:pt x="9823" y="5407"/>
                </a:cubicBezTo>
                <a:cubicBezTo>
                  <a:pt x="10095" y="5466"/>
                  <a:pt x="9996" y="5159"/>
                  <a:pt x="9971" y="5184"/>
                </a:cubicBezTo>
                <a:cubicBezTo>
                  <a:pt x="9971" y="5268"/>
                  <a:pt x="9969" y="5302"/>
                  <a:pt x="9947" y="5358"/>
                </a:cubicBezTo>
              </a:path>
              <a:path w="7492" h="5111">
                <a:moveTo>
                  <a:pt x="9798" y="6375"/>
                </a:moveTo>
                <a:cubicBezTo>
                  <a:pt x="9810" y="6468"/>
                  <a:pt x="9800" y="6581"/>
                  <a:pt x="9823" y="6672"/>
                </a:cubicBezTo>
                <a:cubicBezTo>
                  <a:pt x="9831" y="6680"/>
                  <a:pt x="9839" y="6689"/>
                  <a:pt x="9847" y="6697"/>
                </a:cubicBezTo>
                <a:cubicBezTo>
                  <a:pt x="9985" y="6670"/>
                  <a:pt x="10023" y="6619"/>
                  <a:pt x="10096" y="6499"/>
                </a:cubicBezTo>
                <a:cubicBezTo>
                  <a:pt x="9987" y="6485"/>
                  <a:pt x="10013" y="6507"/>
                  <a:pt x="9971" y="6623"/>
                </a:cubicBezTo>
              </a:path>
              <a:path w="7492" h="5111">
                <a:moveTo>
                  <a:pt x="10170" y="5978"/>
                </a:moveTo>
                <a:cubicBezTo>
                  <a:pt x="10254" y="5957"/>
                  <a:pt x="10333" y="5937"/>
                  <a:pt x="10418" y="5928"/>
                </a:cubicBezTo>
              </a:path>
              <a:path w="7492" h="5111">
                <a:moveTo>
                  <a:pt x="10269" y="6102"/>
                </a:moveTo>
                <a:cubicBezTo>
                  <a:pt x="10369" y="6102"/>
                  <a:pt x="10446" y="6099"/>
                  <a:pt x="10542" y="6077"/>
                </a:cubicBezTo>
              </a:path>
              <a:path w="7492" h="5111">
                <a:moveTo>
                  <a:pt x="11038" y="5407"/>
                </a:moveTo>
                <a:cubicBezTo>
                  <a:pt x="11002" y="5391"/>
                  <a:pt x="11072" y="5626"/>
                  <a:pt x="11088" y="5705"/>
                </a:cubicBezTo>
                <a:cubicBezTo>
                  <a:pt x="11108" y="5789"/>
                  <a:pt x="11110" y="5808"/>
                  <a:pt x="11137" y="5854"/>
                </a:cubicBezTo>
              </a:path>
              <a:path w="7492" h="5111">
                <a:moveTo>
                  <a:pt x="10840" y="6077"/>
                </a:moveTo>
                <a:cubicBezTo>
                  <a:pt x="10990" y="6002"/>
                  <a:pt x="11167" y="5978"/>
                  <a:pt x="11336" y="5953"/>
                </a:cubicBezTo>
                <a:cubicBezTo>
                  <a:pt x="11344" y="5953"/>
                  <a:pt x="11353" y="5953"/>
                  <a:pt x="11361" y="5953"/>
                </a:cubicBezTo>
              </a:path>
              <a:path w="7492" h="5111">
                <a:moveTo>
                  <a:pt x="11013" y="6449"/>
                </a:moveTo>
                <a:cubicBezTo>
                  <a:pt x="11084" y="6400"/>
                  <a:pt x="11142" y="6345"/>
                  <a:pt x="11237" y="6375"/>
                </a:cubicBezTo>
                <a:cubicBezTo>
                  <a:pt x="11290" y="6392"/>
                  <a:pt x="11311" y="6537"/>
                  <a:pt x="11286" y="6573"/>
                </a:cubicBezTo>
                <a:cubicBezTo>
                  <a:pt x="11251" y="6622"/>
                  <a:pt x="11115" y="6712"/>
                  <a:pt x="11063" y="6747"/>
                </a:cubicBezTo>
                <a:cubicBezTo>
                  <a:pt x="10986" y="6799"/>
                  <a:pt x="10977" y="6859"/>
                  <a:pt x="10939" y="6945"/>
                </a:cubicBezTo>
                <a:cubicBezTo>
                  <a:pt x="10992" y="6862"/>
                  <a:pt x="11036" y="6777"/>
                  <a:pt x="11137" y="6747"/>
                </a:cubicBezTo>
                <a:cubicBezTo>
                  <a:pt x="11224" y="6721"/>
                  <a:pt x="11302" y="6786"/>
                  <a:pt x="11385" y="6796"/>
                </a:cubicBezTo>
                <a:cubicBezTo>
                  <a:pt x="11457" y="6804"/>
                  <a:pt x="11502" y="6755"/>
                  <a:pt x="11509" y="6697"/>
                </a:cubicBezTo>
                <a:cubicBezTo>
                  <a:pt x="11509" y="6681"/>
                  <a:pt x="11509" y="6664"/>
                  <a:pt x="11509" y="6648"/>
                </a:cubicBezTo>
              </a:path>
              <a:path w="7492" h="5111">
                <a:moveTo>
                  <a:pt x="10517" y="6573"/>
                </a:moveTo>
                <a:cubicBezTo>
                  <a:pt x="10538" y="6691"/>
                  <a:pt x="10547" y="6823"/>
                  <a:pt x="10567" y="6945"/>
                </a:cubicBezTo>
                <a:cubicBezTo>
                  <a:pt x="10586" y="7064"/>
                  <a:pt x="10638" y="7180"/>
                  <a:pt x="10740" y="7243"/>
                </a:cubicBezTo>
                <a:cubicBezTo>
                  <a:pt x="10859" y="7317"/>
                  <a:pt x="11086" y="7266"/>
                  <a:pt x="11212" y="7243"/>
                </a:cubicBezTo>
                <a:cubicBezTo>
                  <a:pt x="11375" y="7214"/>
                  <a:pt x="11529" y="7152"/>
                  <a:pt x="11658" y="7045"/>
                </a:cubicBezTo>
                <a:cubicBezTo>
                  <a:pt x="11802" y="6926"/>
                  <a:pt x="11822" y="6772"/>
                  <a:pt x="11857" y="6598"/>
                </a:cubicBezTo>
                <a:cubicBezTo>
                  <a:pt x="11908" y="6345"/>
                  <a:pt x="11851" y="6104"/>
                  <a:pt x="11807" y="5854"/>
                </a:cubicBezTo>
                <a:cubicBezTo>
                  <a:pt x="11774" y="5666"/>
                  <a:pt x="11704" y="5530"/>
                  <a:pt x="11633" y="5358"/>
                </a:cubicBezTo>
                <a:cubicBezTo>
                  <a:pt x="11588" y="5251"/>
                  <a:pt x="11564" y="5152"/>
                  <a:pt x="11485" y="5060"/>
                </a:cubicBezTo>
                <a:cubicBezTo>
                  <a:pt x="11396" y="4955"/>
                  <a:pt x="11318" y="4900"/>
                  <a:pt x="11187" y="4862"/>
                </a:cubicBezTo>
                <a:cubicBezTo>
                  <a:pt x="11023" y="4815"/>
                  <a:pt x="10927" y="4821"/>
                  <a:pt x="10765" y="4862"/>
                </a:cubicBezTo>
                <a:cubicBezTo>
                  <a:pt x="10619" y="4899"/>
                  <a:pt x="10502" y="4990"/>
                  <a:pt x="10443" y="5135"/>
                </a:cubicBezTo>
                <a:cubicBezTo>
                  <a:pt x="10388" y="5270"/>
                  <a:pt x="10432" y="5397"/>
                  <a:pt x="10443" y="5531"/>
                </a:cubicBezTo>
                <a:cubicBezTo>
                  <a:pt x="10455" y="5669"/>
                  <a:pt x="10498" y="5794"/>
                  <a:pt x="10517" y="5928"/>
                </a:cubicBezTo>
                <a:cubicBezTo>
                  <a:pt x="10532" y="6034"/>
                  <a:pt x="10558" y="6123"/>
                  <a:pt x="10592" y="6226"/>
                </a:cubicBezTo>
                <a:cubicBezTo>
                  <a:pt x="10627" y="6332"/>
                  <a:pt x="10616" y="6437"/>
                  <a:pt x="10616" y="6548"/>
                </a:cubicBezTo>
                <a:cubicBezTo>
                  <a:pt x="10616" y="6651"/>
                  <a:pt x="10595" y="6744"/>
                  <a:pt x="10592" y="6846"/>
                </a:cubicBezTo>
                <a:cubicBezTo>
                  <a:pt x="10590" y="6930"/>
                  <a:pt x="10606" y="6989"/>
                  <a:pt x="10616" y="7069"/>
                </a:cubicBezTo>
                <a:cubicBezTo>
                  <a:pt x="10616" y="7086"/>
                  <a:pt x="10616" y="7102"/>
                  <a:pt x="10616" y="7119"/>
                </a:cubicBezTo>
              </a:path>
              <a:path w="7492" h="5111">
                <a:moveTo>
                  <a:pt x="4862" y="8062"/>
                </a:moveTo>
                <a:cubicBezTo>
                  <a:pt x="4835" y="8177"/>
                  <a:pt x="4797" y="8219"/>
                  <a:pt x="4713" y="8310"/>
                </a:cubicBezTo>
                <a:cubicBezTo>
                  <a:pt x="4832" y="8250"/>
                  <a:pt x="4847" y="8236"/>
                  <a:pt x="4961" y="8285"/>
                </a:cubicBezTo>
                <a:cubicBezTo>
                  <a:pt x="4986" y="8293"/>
                  <a:pt x="5010" y="8302"/>
                  <a:pt x="5035" y="8310"/>
                </a:cubicBezTo>
              </a:path>
              <a:path w="7492" h="5111">
                <a:moveTo>
                  <a:pt x="5035" y="7838"/>
                </a:moveTo>
                <a:cubicBezTo>
                  <a:pt x="5057" y="8065"/>
                  <a:pt x="5085" y="8277"/>
                  <a:pt x="5085" y="8508"/>
                </a:cubicBezTo>
                <a:cubicBezTo>
                  <a:pt x="5085" y="8533"/>
                  <a:pt x="5085" y="8557"/>
                  <a:pt x="5085" y="8582"/>
                </a:cubicBezTo>
              </a:path>
              <a:path w="7492" h="5111">
                <a:moveTo>
                  <a:pt x="4390" y="8855"/>
                </a:moveTo>
                <a:cubicBezTo>
                  <a:pt x="4736" y="8774"/>
                  <a:pt x="5080" y="8709"/>
                  <a:pt x="5432" y="8657"/>
                </a:cubicBezTo>
              </a:path>
              <a:path w="7492" h="5111">
                <a:moveTo>
                  <a:pt x="5085" y="9178"/>
                </a:moveTo>
                <a:cubicBezTo>
                  <a:pt x="5096" y="9104"/>
                  <a:pt x="5114" y="8901"/>
                  <a:pt x="4961" y="8930"/>
                </a:cubicBezTo>
                <a:cubicBezTo>
                  <a:pt x="4829" y="8955"/>
                  <a:pt x="4816" y="9131"/>
                  <a:pt x="4787" y="9227"/>
                </a:cubicBezTo>
                <a:cubicBezTo>
                  <a:pt x="4939" y="9271"/>
                  <a:pt x="5004" y="9240"/>
                  <a:pt x="5110" y="9103"/>
                </a:cubicBezTo>
                <a:cubicBezTo>
                  <a:pt x="5101" y="9286"/>
                  <a:pt x="5072" y="9467"/>
                  <a:pt x="5060" y="9649"/>
                </a:cubicBezTo>
              </a:path>
              <a:path w="7492" h="5111">
                <a:moveTo>
                  <a:pt x="5953" y="8706"/>
                </a:moveTo>
                <a:cubicBezTo>
                  <a:pt x="5953" y="8831"/>
                  <a:pt x="5954" y="8935"/>
                  <a:pt x="5928" y="9054"/>
                </a:cubicBezTo>
              </a:path>
              <a:path w="7492" h="5111">
                <a:moveTo>
                  <a:pt x="5779" y="8880"/>
                </a:moveTo>
                <a:cubicBezTo>
                  <a:pt x="5920" y="8864"/>
                  <a:pt x="6057" y="8837"/>
                  <a:pt x="6201" y="8830"/>
                </a:cubicBezTo>
              </a:path>
              <a:path w="7492" h="5111">
                <a:moveTo>
                  <a:pt x="6772" y="8186"/>
                </a:moveTo>
                <a:cubicBezTo>
                  <a:pt x="6755" y="8178"/>
                  <a:pt x="6739" y="8169"/>
                  <a:pt x="6722" y="8161"/>
                </a:cubicBezTo>
              </a:path>
              <a:path w="7492" h="5111">
                <a:moveTo>
                  <a:pt x="6796" y="8210"/>
                </a:moveTo>
                <a:cubicBezTo>
                  <a:pt x="6823" y="8139"/>
                  <a:pt x="6892" y="8062"/>
                  <a:pt x="6945" y="7987"/>
                </a:cubicBezTo>
                <a:cubicBezTo>
                  <a:pt x="6995" y="7916"/>
                  <a:pt x="7022" y="7902"/>
                  <a:pt x="7094" y="7863"/>
                </a:cubicBezTo>
                <a:cubicBezTo>
                  <a:pt x="7191" y="7931"/>
                  <a:pt x="7260" y="8034"/>
                  <a:pt x="7169" y="8161"/>
                </a:cubicBezTo>
                <a:cubicBezTo>
                  <a:pt x="7132" y="8212"/>
                  <a:pt x="7019" y="8331"/>
                  <a:pt x="7020" y="8260"/>
                </a:cubicBezTo>
                <a:cubicBezTo>
                  <a:pt x="7156" y="8323"/>
                  <a:pt x="7209" y="8454"/>
                  <a:pt x="7020" y="8558"/>
                </a:cubicBezTo>
                <a:cubicBezTo>
                  <a:pt x="6921" y="8613"/>
                  <a:pt x="6837" y="8569"/>
                  <a:pt x="6747" y="8533"/>
                </a:cubicBezTo>
              </a:path>
              <a:path w="7492" h="5111">
                <a:moveTo>
                  <a:pt x="6648" y="8855"/>
                </a:moveTo>
                <a:cubicBezTo>
                  <a:pt x="6841" y="8807"/>
                  <a:pt x="6997" y="8804"/>
                  <a:pt x="7193" y="8830"/>
                </a:cubicBezTo>
              </a:path>
              <a:path w="7492" h="5111">
                <a:moveTo>
                  <a:pt x="6896" y="9302"/>
                </a:moveTo>
                <a:cubicBezTo>
                  <a:pt x="6973" y="9205"/>
                  <a:pt x="6952" y="9139"/>
                  <a:pt x="6871" y="9054"/>
                </a:cubicBezTo>
                <a:cubicBezTo>
                  <a:pt x="6770" y="8948"/>
                  <a:pt x="6608" y="9085"/>
                  <a:pt x="6573" y="9203"/>
                </a:cubicBezTo>
                <a:cubicBezTo>
                  <a:pt x="6507" y="9423"/>
                  <a:pt x="6779" y="9409"/>
                  <a:pt x="6896" y="9327"/>
                </a:cubicBezTo>
                <a:cubicBezTo>
                  <a:pt x="6943" y="9255"/>
                  <a:pt x="6958" y="9234"/>
                  <a:pt x="6970" y="9178"/>
                </a:cubicBezTo>
              </a:path>
              <a:path w="7492" h="5111">
                <a:moveTo>
                  <a:pt x="6896" y="9054"/>
                </a:moveTo>
                <a:cubicBezTo>
                  <a:pt x="6875" y="9240"/>
                  <a:pt x="6896" y="9432"/>
                  <a:pt x="6896" y="9624"/>
                </a:cubicBezTo>
                <a:cubicBezTo>
                  <a:pt x="6896" y="9690"/>
                  <a:pt x="6896" y="9707"/>
                  <a:pt x="6896" y="9748"/>
                </a:cubicBezTo>
              </a:path>
              <a:path w="7492" h="5111">
                <a:moveTo>
                  <a:pt x="7813" y="8905"/>
                </a:moveTo>
                <a:cubicBezTo>
                  <a:pt x="7894" y="8861"/>
                  <a:pt x="7912" y="8841"/>
                  <a:pt x="7987" y="8830"/>
                </a:cubicBezTo>
              </a:path>
              <a:path w="7492" h="5111">
                <a:moveTo>
                  <a:pt x="7789" y="8979"/>
                </a:moveTo>
                <a:cubicBezTo>
                  <a:pt x="7878" y="8979"/>
                  <a:pt x="7932" y="8981"/>
                  <a:pt x="8012" y="8954"/>
                </a:cubicBezTo>
              </a:path>
              <a:path w="7492" h="5111">
                <a:moveTo>
                  <a:pt x="8657" y="8855"/>
                </a:moveTo>
                <a:cubicBezTo>
                  <a:pt x="8875" y="8820"/>
                  <a:pt x="9105" y="8799"/>
                  <a:pt x="9327" y="8781"/>
                </a:cubicBezTo>
                <a:cubicBezTo>
                  <a:pt x="9360" y="8781"/>
                  <a:pt x="9393" y="8781"/>
                  <a:pt x="9426" y="8781"/>
                </a:cubicBezTo>
              </a:path>
              <a:path w="7492" h="5111">
                <a:moveTo>
                  <a:pt x="9227" y="9252"/>
                </a:moveTo>
                <a:cubicBezTo>
                  <a:pt x="9279" y="9174"/>
                  <a:pt x="9295" y="9146"/>
                  <a:pt x="9252" y="9079"/>
                </a:cubicBezTo>
                <a:cubicBezTo>
                  <a:pt x="9115" y="9047"/>
                  <a:pt x="8911" y="9045"/>
                  <a:pt x="8830" y="9203"/>
                </a:cubicBezTo>
                <a:cubicBezTo>
                  <a:pt x="8830" y="9244"/>
                  <a:pt x="8830" y="9286"/>
                  <a:pt x="8830" y="9327"/>
                </a:cubicBezTo>
                <a:cubicBezTo>
                  <a:pt x="9014" y="9336"/>
                  <a:pt x="9055" y="9321"/>
                  <a:pt x="9178" y="9178"/>
                </a:cubicBezTo>
                <a:cubicBezTo>
                  <a:pt x="9191" y="9361"/>
                  <a:pt x="9203" y="9539"/>
                  <a:pt x="9203" y="9723"/>
                </a:cubicBezTo>
              </a:path>
              <a:path w="7492" h="5111">
                <a:moveTo>
                  <a:pt x="8582" y="8136"/>
                </a:moveTo>
                <a:cubicBezTo>
                  <a:pt x="8679" y="8097"/>
                  <a:pt x="8780" y="8057"/>
                  <a:pt x="8880" y="8037"/>
                </a:cubicBezTo>
                <a:cubicBezTo>
                  <a:pt x="8880" y="8211"/>
                  <a:pt x="8848" y="8363"/>
                  <a:pt x="8830" y="8533"/>
                </a:cubicBezTo>
              </a:path>
              <a:path w="7492" h="5111">
                <a:moveTo>
                  <a:pt x="8607" y="8161"/>
                </a:moveTo>
                <a:cubicBezTo>
                  <a:pt x="8518" y="8143"/>
                  <a:pt x="8467" y="8174"/>
                  <a:pt x="8384" y="8186"/>
                </a:cubicBezTo>
              </a:path>
              <a:path w="7492" h="5111">
                <a:moveTo>
                  <a:pt x="9475" y="8235"/>
                </a:moveTo>
                <a:cubicBezTo>
                  <a:pt x="9460" y="8089"/>
                  <a:pt x="9437" y="8041"/>
                  <a:pt x="9351" y="7913"/>
                </a:cubicBezTo>
                <a:cubicBezTo>
                  <a:pt x="9247" y="7759"/>
                  <a:pt x="9170" y="7642"/>
                  <a:pt x="9004" y="7565"/>
                </a:cubicBezTo>
                <a:cubicBezTo>
                  <a:pt x="8909" y="7521"/>
                  <a:pt x="8740" y="7482"/>
                  <a:pt x="8632" y="7516"/>
                </a:cubicBezTo>
                <a:cubicBezTo>
                  <a:pt x="8492" y="7559"/>
                  <a:pt x="8360" y="7720"/>
                  <a:pt x="8285" y="7838"/>
                </a:cubicBezTo>
                <a:cubicBezTo>
                  <a:pt x="8174" y="8013"/>
                  <a:pt x="8200" y="8119"/>
                  <a:pt x="8235" y="8310"/>
                </a:cubicBezTo>
                <a:cubicBezTo>
                  <a:pt x="8264" y="8468"/>
                  <a:pt x="8293" y="8627"/>
                  <a:pt x="8334" y="8781"/>
                </a:cubicBezTo>
                <a:cubicBezTo>
                  <a:pt x="8368" y="8907"/>
                  <a:pt x="8397" y="9027"/>
                  <a:pt x="8434" y="9153"/>
                </a:cubicBezTo>
                <a:cubicBezTo>
                  <a:pt x="8479" y="9309"/>
                  <a:pt x="8511" y="9469"/>
                  <a:pt x="8558" y="9624"/>
                </a:cubicBezTo>
                <a:cubicBezTo>
                  <a:pt x="8596" y="9748"/>
                  <a:pt x="8646" y="9849"/>
                  <a:pt x="8781" y="9897"/>
                </a:cubicBezTo>
                <a:cubicBezTo>
                  <a:pt x="8842" y="9919"/>
                  <a:pt x="8962" y="9938"/>
                  <a:pt x="9029" y="9922"/>
                </a:cubicBezTo>
                <a:cubicBezTo>
                  <a:pt x="9179" y="9887"/>
                  <a:pt x="9292" y="9828"/>
                  <a:pt x="9401" y="9723"/>
                </a:cubicBezTo>
                <a:cubicBezTo>
                  <a:pt x="9507" y="9621"/>
                  <a:pt x="9555" y="9517"/>
                  <a:pt x="9599" y="9376"/>
                </a:cubicBezTo>
                <a:cubicBezTo>
                  <a:pt x="9638" y="9251"/>
                  <a:pt x="9610" y="9174"/>
                  <a:pt x="9599" y="9054"/>
                </a:cubicBezTo>
                <a:cubicBezTo>
                  <a:pt x="9591" y="8967"/>
                  <a:pt x="9561" y="8891"/>
                  <a:pt x="9550" y="8806"/>
                </a:cubicBezTo>
                <a:cubicBezTo>
                  <a:pt x="9531" y="8656"/>
                  <a:pt x="9535" y="8479"/>
                  <a:pt x="9525" y="8334"/>
                </a:cubicBezTo>
                <a:cubicBezTo>
                  <a:pt x="9520" y="8259"/>
                  <a:pt x="9523" y="8200"/>
                  <a:pt x="9500" y="8136"/>
                </a:cubicBezTo>
                <a:cubicBezTo>
                  <a:pt x="9475" y="8086"/>
                  <a:pt x="9467" y="8070"/>
                  <a:pt x="9451" y="8037"/>
                </a:cubicBezTo>
              </a:path>
              <a:path w="7492" h="5111">
                <a:moveTo>
                  <a:pt x="10071" y="5035"/>
                </a:moveTo>
                <a:lnTo>
                  <a:pt x="10071" y="503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1009800"/>
            <a:ext cx="768600" cy="857160"/>
          </a:xfrm>
          <a:custGeom>
            <a:avLst/>
            <a:gdLst/>
            <a:ahLst/>
            <a:rect l="l" t="t" r="r" b="b"/>
            <a:pathLst>
              <a:path w="2134" h="2382">
                <a:moveTo>
                  <a:pt x="12725" y="3497"/>
                </a:moveTo>
                <a:cubicBezTo>
                  <a:pt x="12848" y="3528"/>
                  <a:pt x="12798" y="3838"/>
                  <a:pt x="12824" y="3944"/>
                </a:cubicBezTo>
                <a:cubicBezTo>
                  <a:pt x="12872" y="4143"/>
                  <a:pt x="12988" y="4113"/>
                  <a:pt x="13097" y="3969"/>
                </a:cubicBezTo>
                <a:cubicBezTo>
                  <a:pt x="13143" y="3876"/>
                  <a:pt x="13154" y="3847"/>
                  <a:pt x="13221" y="3820"/>
                </a:cubicBezTo>
              </a:path>
              <a:path w="2134" h="2382">
                <a:moveTo>
                  <a:pt x="13345" y="3125"/>
                </a:moveTo>
                <a:cubicBezTo>
                  <a:pt x="13362" y="3133"/>
                  <a:pt x="13378" y="3142"/>
                  <a:pt x="13395" y="3150"/>
                </a:cubicBezTo>
                <a:cubicBezTo>
                  <a:pt x="13245" y="3062"/>
                  <a:pt x="13187" y="3226"/>
                  <a:pt x="13171" y="3398"/>
                </a:cubicBezTo>
                <a:cubicBezTo>
                  <a:pt x="13150" y="3618"/>
                  <a:pt x="13363" y="3781"/>
                  <a:pt x="13568" y="3671"/>
                </a:cubicBezTo>
                <a:cubicBezTo>
                  <a:pt x="13601" y="3638"/>
                  <a:pt x="13634" y="3605"/>
                  <a:pt x="13667" y="3572"/>
                </a:cubicBezTo>
              </a:path>
              <a:path w="2134" h="2382">
                <a:moveTo>
                  <a:pt x="13742" y="2853"/>
                </a:moveTo>
                <a:cubicBezTo>
                  <a:pt x="13825" y="3102"/>
                  <a:pt x="13919" y="3339"/>
                  <a:pt x="14039" y="3572"/>
                </a:cubicBezTo>
                <a:cubicBezTo>
                  <a:pt x="14047" y="3588"/>
                  <a:pt x="14056" y="3605"/>
                  <a:pt x="14064" y="3621"/>
                </a:cubicBezTo>
              </a:path>
              <a:path w="2134" h="2382">
                <a:moveTo>
                  <a:pt x="13370" y="2902"/>
                </a:moveTo>
                <a:cubicBezTo>
                  <a:pt x="13648" y="2821"/>
                  <a:pt x="14110" y="2674"/>
                  <a:pt x="14312" y="3001"/>
                </a:cubicBezTo>
                <a:cubicBezTo>
                  <a:pt x="14445" y="3216"/>
                  <a:pt x="14180" y="3515"/>
                  <a:pt x="13990" y="3572"/>
                </a:cubicBezTo>
                <a:cubicBezTo>
                  <a:pt x="13957" y="3572"/>
                  <a:pt x="13924" y="3572"/>
                  <a:pt x="13891" y="3572"/>
                </a:cubicBezTo>
              </a:path>
              <a:path w="2134" h="2382">
                <a:moveTo>
                  <a:pt x="13196" y="4539"/>
                </a:moveTo>
                <a:cubicBezTo>
                  <a:pt x="13616" y="4178"/>
                  <a:pt x="14025" y="3806"/>
                  <a:pt x="14486" y="3497"/>
                </a:cubicBezTo>
                <a:cubicBezTo>
                  <a:pt x="14544" y="3464"/>
                  <a:pt x="14602" y="3431"/>
                  <a:pt x="14660" y="3398"/>
                </a:cubicBezTo>
              </a:path>
              <a:path w="2134" h="2382">
                <a:moveTo>
                  <a:pt x="13295" y="4787"/>
                </a:moveTo>
                <a:cubicBezTo>
                  <a:pt x="13364" y="4688"/>
                  <a:pt x="13446" y="4599"/>
                  <a:pt x="13519" y="4514"/>
                </a:cubicBezTo>
                <a:cubicBezTo>
                  <a:pt x="13597" y="4423"/>
                  <a:pt x="13690" y="4336"/>
                  <a:pt x="13791" y="4266"/>
                </a:cubicBezTo>
                <a:cubicBezTo>
                  <a:pt x="13867" y="4213"/>
                  <a:pt x="13913" y="4132"/>
                  <a:pt x="13990" y="4068"/>
                </a:cubicBezTo>
                <a:cubicBezTo>
                  <a:pt x="14074" y="3998"/>
                  <a:pt x="14163" y="3939"/>
                  <a:pt x="14238" y="3870"/>
                </a:cubicBezTo>
                <a:cubicBezTo>
                  <a:pt x="14320" y="3795"/>
                  <a:pt x="14438" y="3728"/>
                  <a:pt x="14511" y="3646"/>
                </a:cubicBezTo>
                <a:cubicBezTo>
                  <a:pt x="14552" y="3600"/>
                  <a:pt x="14591" y="3545"/>
                  <a:pt x="14635" y="3497"/>
                </a:cubicBezTo>
              </a:path>
              <a:path w="2134" h="2382">
                <a:moveTo>
                  <a:pt x="13469" y="4837"/>
                </a:moveTo>
                <a:cubicBezTo>
                  <a:pt x="13514" y="4953"/>
                  <a:pt x="13556" y="5065"/>
                  <a:pt x="13593" y="5184"/>
                </a:cubicBezTo>
                <a:cubicBezTo>
                  <a:pt x="13714" y="5098"/>
                  <a:pt x="13821" y="4995"/>
                  <a:pt x="13940" y="4911"/>
                </a:cubicBezTo>
              </a:path>
              <a:path w="2134" h="2382">
                <a:moveTo>
                  <a:pt x="13965" y="4415"/>
                </a:moveTo>
                <a:cubicBezTo>
                  <a:pt x="14025" y="4445"/>
                  <a:pt x="14032" y="4447"/>
                  <a:pt x="13940" y="4390"/>
                </a:cubicBezTo>
                <a:cubicBezTo>
                  <a:pt x="13861" y="4469"/>
                  <a:pt x="13751" y="4683"/>
                  <a:pt x="13891" y="4787"/>
                </a:cubicBezTo>
                <a:cubicBezTo>
                  <a:pt x="14027" y="4888"/>
                  <a:pt x="14199" y="4746"/>
                  <a:pt x="14263" y="4638"/>
                </a:cubicBezTo>
                <a:cubicBezTo>
                  <a:pt x="14263" y="4630"/>
                  <a:pt x="14263" y="4622"/>
                  <a:pt x="14263" y="4614"/>
                </a:cubicBezTo>
              </a:path>
              <a:path w="2134" h="2382">
                <a:moveTo>
                  <a:pt x="14238" y="4118"/>
                </a:moveTo>
                <a:cubicBezTo>
                  <a:pt x="14284" y="4225"/>
                  <a:pt x="14359" y="4324"/>
                  <a:pt x="14436" y="4415"/>
                </a:cubicBezTo>
                <a:cubicBezTo>
                  <a:pt x="14335" y="4299"/>
                  <a:pt x="14280" y="4224"/>
                  <a:pt x="14263" y="4068"/>
                </a:cubicBezTo>
                <a:cubicBezTo>
                  <a:pt x="14263" y="4060"/>
                  <a:pt x="14263" y="4051"/>
                  <a:pt x="14263" y="4043"/>
                </a:cubicBezTo>
                <a:cubicBezTo>
                  <a:pt x="14426" y="3956"/>
                  <a:pt x="14463" y="3969"/>
                  <a:pt x="14585" y="4118"/>
                </a:cubicBezTo>
                <a:cubicBezTo>
                  <a:pt x="14628" y="4181"/>
                  <a:pt x="14644" y="4193"/>
                  <a:pt x="14635" y="4242"/>
                </a:cubicBezTo>
                <a:cubicBezTo>
                  <a:pt x="14505" y="4092"/>
                  <a:pt x="14491" y="4076"/>
                  <a:pt x="14511" y="3894"/>
                </a:cubicBezTo>
                <a:cubicBezTo>
                  <a:pt x="14522" y="3799"/>
                  <a:pt x="14497" y="3808"/>
                  <a:pt x="14585" y="3795"/>
                </a:cubicBezTo>
                <a:cubicBezTo>
                  <a:pt x="14656" y="3830"/>
                  <a:pt x="14730" y="3877"/>
                  <a:pt x="14784" y="3944"/>
                </a:cubicBezTo>
                <a:cubicBezTo>
                  <a:pt x="14833" y="4006"/>
                  <a:pt x="14825" y="4038"/>
                  <a:pt x="14858" y="409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73800" y="330120"/>
            <a:ext cx="1482480" cy="750960"/>
          </a:xfrm>
          <a:custGeom>
            <a:avLst/>
            <a:gdLst/>
            <a:ahLst/>
            <a:rect l="l" t="t" r="r" b="b"/>
            <a:pathLst>
              <a:path w="4119" h="2084">
                <a:moveTo>
                  <a:pt x="15627" y="2183"/>
                </a:moveTo>
                <a:cubicBezTo>
                  <a:pt x="15602" y="2132"/>
                  <a:pt x="15548" y="2024"/>
                  <a:pt x="15478" y="2034"/>
                </a:cubicBezTo>
                <a:cubicBezTo>
                  <a:pt x="15287" y="2060"/>
                  <a:pt x="15232" y="2229"/>
                  <a:pt x="15205" y="2381"/>
                </a:cubicBezTo>
                <a:cubicBezTo>
                  <a:pt x="15327" y="2381"/>
                  <a:pt x="15455" y="2375"/>
                  <a:pt x="15528" y="2257"/>
                </a:cubicBezTo>
                <a:cubicBezTo>
                  <a:pt x="15564" y="2198"/>
                  <a:pt x="15552" y="2144"/>
                  <a:pt x="15528" y="2208"/>
                </a:cubicBezTo>
                <a:cubicBezTo>
                  <a:pt x="15521" y="2399"/>
                  <a:pt x="15503" y="2587"/>
                  <a:pt x="15503" y="2778"/>
                </a:cubicBezTo>
              </a:path>
              <a:path w="4119" h="2084">
                <a:moveTo>
                  <a:pt x="15850" y="2332"/>
                </a:moveTo>
                <a:lnTo>
                  <a:pt x="15850" y="2332"/>
                </a:lnTo>
              </a:path>
              <a:path w="4119" h="2084">
                <a:moveTo>
                  <a:pt x="15850" y="2704"/>
                </a:moveTo>
                <a:lnTo>
                  <a:pt x="15850" y="2704"/>
                </a:lnTo>
              </a:path>
              <a:path w="4119" h="2084">
                <a:moveTo>
                  <a:pt x="16321" y="2282"/>
                </a:moveTo>
                <a:cubicBezTo>
                  <a:pt x="16310" y="2226"/>
                  <a:pt x="16251" y="2116"/>
                  <a:pt x="16173" y="2158"/>
                </a:cubicBezTo>
                <a:cubicBezTo>
                  <a:pt x="16074" y="2211"/>
                  <a:pt x="16081" y="2289"/>
                  <a:pt x="16073" y="2381"/>
                </a:cubicBezTo>
                <a:cubicBezTo>
                  <a:pt x="16216" y="2420"/>
                  <a:pt x="16219" y="2397"/>
                  <a:pt x="16297" y="2282"/>
                </a:cubicBezTo>
                <a:cubicBezTo>
                  <a:pt x="16305" y="2274"/>
                  <a:pt x="16313" y="2265"/>
                  <a:pt x="16321" y="2257"/>
                </a:cubicBezTo>
                <a:cubicBezTo>
                  <a:pt x="16329" y="2409"/>
                  <a:pt x="16357" y="2564"/>
                  <a:pt x="16346" y="2704"/>
                </a:cubicBezTo>
                <a:cubicBezTo>
                  <a:pt x="16346" y="2762"/>
                  <a:pt x="16346" y="2770"/>
                  <a:pt x="16346" y="2803"/>
                </a:cubicBezTo>
              </a:path>
              <a:path w="4119" h="2084">
                <a:moveTo>
                  <a:pt x="16495" y="2778"/>
                </a:moveTo>
                <a:cubicBezTo>
                  <a:pt x="16469" y="2897"/>
                  <a:pt x="16478" y="2932"/>
                  <a:pt x="16396" y="3001"/>
                </a:cubicBezTo>
              </a:path>
              <a:path w="4119" h="2084">
                <a:moveTo>
                  <a:pt x="16619" y="2208"/>
                </a:moveTo>
                <a:cubicBezTo>
                  <a:pt x="16619" y="2353"/>
                  <a:pt x="16627" y="2486"/>
                  <a:pt x="16644" y="2629"/>
                </a:cubicBezTo>
                <a:cubicBezTo>
                  <a:pt x="16644" y="2637"/>
                  <a:pt x="16644" y="2646"/>
                  <a:pt x="16644" y="2654"/>
                </a:cubicBezTo>
              </a:path>
              <a:path w="4119" h="2084">
                <a:moveTo>
                  <a:pt x="17016" y="2133"/>
                </a:moveTo>
                <a:cubicBezTo>
                  <a:pt x="16944" y="2146"/>
                  <a:pt x="16800" y="2194"/>
                  <a:pt x="16892" y="2307"/>
                </a:cubicBezTo>
                <a:cubicBezTo>
                  <a:pt x="16975" y="2409"/>
                  <a:pt x="17050" y="2408"/>
                  <a:pt x="17066" y="2555"/>
                </a:cubicBezTo>
                <a:cubicBezTo>
                  <a:pt x="16916" y="2580"/>
                  <a:pt x="16911" y="2581"/>
                  <a:pt x="16942" y="2431"/>
                </a:cubicBezTo>
                <a:cubicBezTo>
                  <a:pt x="16960" y="2346"/>
                  <a:pt x="17000" y="2245"/>
                  <a:pt x="16991" y="2183"/>
                </a:cubicBezTo>
              </a:path>
              <a:path w="4119" h="2084">
                <a:moveTo>
                  <a:pt x="17239" y="2604"/>
                </a:moveTo>
                <a:cubicBezTo>
                  <a:pt x="17239" y="2662"/>
                  <a:pt x="17239" y="2720"/>
                  <a:pt x="17239" y="2778"/>
                </a:cubicBezTo>
              </a:path>
              <a:path w="4119" h="2084">
                <a:moveTo>
                  <a:pt x="17388" y="2232"/>
                </a:moveTo>
                <a:cubicBezTo>
                  <a:pt x="17461" y="2203"/>
                  <a:pt x="17642" y="2120"/>
                  <a:pt x="17661" y="2282"/>
                </a:cubicBezTo>
                <a:cubicBezTo>
                  <a:pt x="17674" y="2387"/>
                  <a:pt x="17502" y="2472"/>
                  <a:pt x="17438" y="2530"/>
                </a:cubicBezTo>
                <a:cubicBezTo>
                  <a:pt x="17530" y="2525"/>
                  <a:pt x="17619" y="2513"/>
                  <a:pt x="17711" y="2505"/>
                </a:cubicBezTo>
              </a:path>
              <a:path w="4119" h="2084">
                <a:moveTo>
                  <a:pt x="17835" y="2183"/>
                </a:moveTo>
                <a:cubicBezTo>
                  <a:pt x="17926" y="2168"/>
                  <a:pt x="18054" y="2103"/>
                  <a:pt x="18058" y="2232"/>
                </a:cubicBezTo>
                <a:cubicBezTo>
                  <a:pt x="18062" y="2358"/>
                  <a:pt x="18021" y="2460"/>
                  <a:pt x="18008" y="2580"/>
                </a:cubicBezTo>
              </a:path>
              <a:path w="4119" h="2084">
                <a:moveTo>
                  <a:pt x="18231" y="2555"/>
                </a:moveTo>
                <a:cubicBezTo>
                  <a:pt x="18242" y="2663"/>
                  <a:pt x="18292" y="2722"/>
                  <a:pt x="18182" y="2753"/>
                </a:cubicBezTo>
              </a:path>
              <a:path w="4119" h="2084">
                <a:moveTo>
                  <a:pt x="18455" y="2158"/>
                </a:moveTo>
                <a:lnTo>
                  <a:pt x="18455" y="2158"/>
                </a:lnTo>
              </a:path>
              <a:path w="4119" h="2084">
                <a:moveTo>
                  <a:pt x="18455" y="2183"/>
                </a:moveTo>
                <a:cubicBezTo>
                  <a:pt x="18547" y="2122"/>
                  <a:pt x="18562" y="2079"/>
                  <a:pt x="18653" y="2108"/>
                </a:cubicBezTo>
                <a:cubicBezTo>
                  <a:pt x="18666" y="2265"/>
                  <a:pt x="18603" y="2274"/>
                  <a:pt x="18455" y="2332"/>
                </a:cubicBezTo>
                <a:cubicBezTo>
                  <a:pt x="18534" y="2314"/>
                  <a:pt x="18749" y="2266"/>
                  <a:pt x="18728" y="2431"/>
                </a:cubicBezTo>
                <a:cubicBezTo>
                  <a:pt x="18706" y="2598"/>
                  <a:pt x="18549" y="2566"/>
                  <a:pt x="18455" y="2505"/>
                </a:cubicBezTo>
                <a:cubicBezTo>
                  <a:pt x="18447" y="2497"/>
                  <a:pt x="18438" y="2488"/>
                  <a:pt x="18430" y="2480"/>
                </a:cubicBezTo>
              </a:path>
              <a:path w="4119" h="2084">
                <a:moveTo>
                  <a:pt x="18901" y="2034"/>
                </a:moveTo>
                <a:cubicBezTo>
                  <a:pt x="18912" y="2136"/>
                  <a:pt x="18926" y="2226"/>
                  <a:pt x="18926" y="2332"/>
                </a:cubicBezTo>
                <a:cubicBezTo>
                  <a:pt x="18926" y="2440"/>
                  <a:pt x="18926" y="2528"/>
                  <a:pt x="19050" y="2555"/>
                </a:cubicBezTo>
                <a:cubicBezTo>
                  <a:pt x="19161" y="2580"/>
                  <a:pt x="19243" y="2521"/>
                  <a:pt x="19323" y="2456"/>
                </a:cubicBezTo>
                <a:cubicBezTo>
                  <a:pt x="19306" y="2405"/>
                  <a:pt x="19233" y="2323"/>
                  <a:pt x="19149" y="2381"/>
                </a:cubicBezTo>
                <a:cubicBezTo>
                  <a:pt x="19105" y="2411"/>
                  <a:pt x="19124" y="2488"/>
                  <a:pt x="19124" y="2530"/>
                </a:cubicBezTo>
              </a:path>
              <a:path w="4119" h="2084">
                <a:moveTo>
                  <a:pt x="15354" y="918"/>
                </a:moveTo>
                <a:cubicBezTo>
                  <a:pt x="15337" y="1033"/>
                  <a:pt x="15292" y="1149"/>
                  <a:pt x="15280" y="1265"/>
                </a:cubicBezTo>
                <a:cubicBezTo>
                  <a:pt x="15271" y="1347"/>
                  <a:pt x="15215" y="1502"/>
                  <a:pt x="15304" y="1563"/>
                </a:cubicBezTo>
                <a:cubicBezTo>
                  <a:pt x="15382" y="1617"/>
                  <a:pt x="15532" y="1509"/>
                  <a:pt x="15577" y="1463"/>
                </a:cubicBezTo>
                <a:cubicBezTo>
                  <a:pt x="15673" y="1363"/>
                  <a:pt x="15619" y="1322"/>
                  <a:pt x="15528" y="1265"/>
                </a:cubicBezTo>
                <a:cubicBezTo>
                  <a:pt x="15495" y="1363"/>
                  <a:pt x="15503" y="1457"/>
                  <a:pt x="15503" y="1563"/>
                </a:cubicBezTo>
                <a:cubicBezTo>
                  <a:pt x="15503" y="1571"/>
                  <a:pt x="15503" y="1580"/>
                  <a:pt x="15503" y="1588"/>
                </a:cubicBezTo>
              </a:path>
              <a:path w="4119" h="2084">
                <a:moveTo>
                  <a:pt x="15776" y="1042"/>
                </a:moveTo>
                <a:lnTo>
                  <a:pt x="15776" y="1042"/>
                </a:lnTo>
              </a:path>
              <a:path w="4119" h="2084">
                <a:moveTo>
                  <a:pt x="15850" y="1414"/>
                </a:moveTo>
                <a:lnTo>
                  <a:pt x="15850" y="1414"/>
                </a:lnTo>
              </a:path>
              <a:path w="4119" h="2084">
                <a:moveTo>
                  <a:pt x="16098" y="1116"/>
                </a:moveTo>
                <a:cubicBezTo>
                  <a:pt x="16051" y="1273"/>
                  <a:pt x="16049" y="1398"/>
                  <a:pt x="16049" y="1563"/>
                </a:cubicBezTo>
                <a:cubicBezTo>
                  <a:pt x="16049" y="1612"/>
                  <a:pt x="16049" y="1629"/>
                  <a:pt x="16049" y="1662"/>
                </a:cubicBezTo>
                <a:cubicBezTo>
                  <a:pt x="16148" y="1651"/>
                  <a:pt x="16211" y="1623"/>
                  <a:pt x="16272" y="1538"/>
                </a:cubicBezTo>
                <a:cubicBezTo>
                  <a:pt x="16328" y="1460"/>
                  <a:pt x="16274" y="1433"/>
                  <a:pt x="16222" y="1389"/>
                </a:cubicBezTo>
                <a:cubicBezTo>
                  <a:pt x="16173" y="1481"/>
                  <a:pt x="16156" y="1532"/>
                  <a:pt x="16148" y="1637"/>
                </a:cubicBezTo>
              </a:path>
              <a:path w="4119" h="2084">
                <a:moveTo>
                  <a:pt x="16421" y="1612"/>
                </a:moveTo>
                <a:cubicBezTo>
                  <a:pt x="16416" y="1681"/>
                  <a:pt x="16406" y="1743"/>
                  <a:pt x="16396" y="1811"/>
                </a:cubicBezTo>
              </a:path>
              <a:path w="4119" h="2084">
                <a:moveTo>
                  <a:pt x="16644" y="1265"/>
                </a:moveTo>
                <a:cubicBezTo>
                  <a:pt x="16664" y="1381"/>
                  <a:pt x="16690" y="1491"/>
                  <a:pt x="16694" y="1612"/>
                </a:cubicBezTo>
                <a:cubicBezTo>
                  <a:pt x="16694" y="1637"/>
                  <a:pt x="16694" y="1662"/>
                  <a:pt x="16694" y="1687"/>
                </a:cubicBezTo>
              </a:path>
              <a:path w="4119" h="2084">
                <a:moveTo>
                  <a:pt x="16793" y="1265"/>
                </a:moveTo>
                <a:cubicBezTo>
                  <a:pt x="16851" y="1207"/>
                  <a:pt x="16859" y="1199"/>
                  <a:pt x="16892" y="1166"/>
                </a:cubicBezTo>
                <a:cubicBezTo>
                  <a:pt x="16986" y="1259"/>
                  <a:pt x="17019" y="1303"/>
                  <a:pt x="16966" y="1439"/>
                </a:cubicBezTo>
                <a:cubicBezTo>
                  <a:pt x="16900" y="1609"/>
                  <a:pt x="16803" y="1629"/>
                  <a:pt x="17016" y="1563"/>
                </a:cubicBezTo>
                <a:cubicBezTo>
                  <a:pt x="17024" y="1563"/>
                  <a:pt x="17033" y="1563"/>
                  <a:pt x="17041" y="1563"/>
                </a:cubicBezTo>
              </a:path>
              <a:path w="4119" h="2084">
                <a:moveTo>
                  <a:pt x="17165" y="1712"/>
                </a:moveTo>
                <a:cubicBezTo>
                  <a:pt x="17165" y="1829"/>
                  <a:pt x="17167" y="1863"/>
                  <a:pt x="17140" y="1935"/>
                </a:cubicBezTo>
              </a:path>
              <a:path w="4119" h="2084">
                <a:moveTo>
                  <a:pt x="17338" y="1240"/>
                </a:moveTo>
                <a:cubicBezTo>
                  <a:pt x="17347" y="1398"/>
                  <a:pt x="17363" y="1552"/>
                  <a:pt x="17363" y="1712"/>
                </a:cubicBezTo>
              </a:path>
              <a:path w="4119" h="2084">
                <a:moveTo>
                  <a:pt x="17760" y="1191"/>
                </a:moveTo>
                <a:cubicBezTo>
                  <a:pt x="17710" y="1218"/>
                  <a:pt x="17556" y="1281"/>
                  <a:pt x="17587" y="1364"/>
                </a:cubicBezTo>
                <a:cubicBezTo>
                  <a:pt x="17635" y="1493"/>
                  <a:pt x="17783" y="1452"/>
                  <a:pt x="17810" y="1588"/>
                </a:cubicBezTo>
                <a:cubicBezTo>
                  <a:pt x="17810" y="1613"/>
                  <a:pt x="17810" y="1637"/>
                  <a:pt x="17810" y="1662"/>
                </a:cubicBezTo>
                <a:cubicBezTo>
                  <a:pt x="17664" y="1685"/>
                  <a:pt x="17624" y="1625"/>
                  <a:pt x="17686" y="1463"/>
                </a:cubicBezTo>
                <a:cubicBezTo>
                  <a:pt x="17727" y="1357"/>
                  <a:pt x="17797" y="1336"/>
                  <a:pt x="17810" y="1215"/>
                </a:cubicBezTo>
              </a:path>
              <a:path w="4119" h="2084">
                <a:moveTo>
                  <a:pt x="18107" y="1687"/>
                </a:moveTo>
                <a:cubicBezTo>
                  <a:pt x="18099" y="1764"/>
                  <a:pt x="18090" y="1847"/>
                  <a:pt x="18058" y="1910"/>
                </a:cubicBezTo>
              </a:path>
              <a:path w="4119" h="2084">
                <a:moveTo>
                  <a:pt x="18256" y="1265"/>
                </a:moveTo>
                <a:cubicBezTo>
                  <a:pt x="18368" y="1265"/>
                  <a:pt x="18387" y="1258"/>
                  <a:pt x="18430" y="1364"/>
                </a:cubicBezTo>
                <a:cubicBezTo>
                  <a:pt x="18475" y="1477"/>
                  <a:pt x="18391" y="1562"/>
                  <a:pt x="18281" y="1588"/>
                </a:cubicBezTo>
                <a:cubicBezTo>
                  <a:pt x="18264" y="1588"/>
                  <a:pt x="18248" y="1588"/>
                  <a:pt x="18231" y="1588"/>
                </a:cubicBezTo>
                <a:cubicBezTo>
                  <a:pt x="18269" y="1557"/>
                  <a:pt x="18369" y="1466"/>
                  <a:pt x="18430" y="1513"/>
                </a:cubicBezTo>
                <a:cubicBezTo>
                  <a:pt x="18457" y="1567"/>
                  <a:pt x="18468" y="1587"/>
                  <a:pt x="18504" y="1612"/>
                </a:cubicBezTo>
              </a:path>
              <a:path w="4119" h="2084">
                <a:moveTo>
                  <a:pt x="18604" y="1240"/>
                </a:moveTo>
                <a:cubicBezTo>
                  <a:pt x="18624" y="1327"/>
                  <a:pt x="18652" y="1536"/>
                  <a:pt x="18802" y="1439"/>
                </a:cubicBezTo>
                <a:cubicBezTo>
                  <a:pt x="18810" y="1422"/>
                  <a:pt x="18819" y="1406"/>
                  <a:pt x="18827" y="1389"/>
                </a:cubicBezTo>
              </a:path>
              <a:path w="4119" h="2084">
                <a:moveTo>
                  <a:pt x="18752" y="1166"/>
                </a:moveTo>
                <a:cubicBezTo>
                  <a:pt x="18760" y="1333"/>
                  <a:pt x="18770" y="1523"/>
                  <a:pt x="18802" y="1687"/>
                </a:cubicBezTo>
                <a:cubicBezTo>
                  <a:pt x="18810" y="1703"/>
                  <a:pt x="18819" y="1720"/>
                  <a:pt x="18827" y="1736"/>
                </a:cubicBezTo>
              </a:path>
              <a:path w="4119" h="2084">
                <a:moveTo>
                  <a:pt x="17140" y="1364"/>
                </a:moveTo>
                <a:cubicBezTo>
                  <a:pt x="17153" y="1426"/>
                  <a:pt x="17148" y="1504"/>
                  <a:pt x="17165" y="1563"/>
                </a:cubicBezTo>
                <a:cubicBezTo>
                  <a:pt x="17186" y="1637"/>
                  <a:pt x="17233" y="1732"/>
                  <a:pt x="17289" y="1786"/>
                </a:cubicBezTo>
                <a:cubicBezTo>
                  <a:pt x="17379" y="1872"/>
                  <a:pt x="17494" y="1881"/>
                  <a:pt x="17611" y="1885"/>
                </a:cubicBezTo>
                <a:cubicBezTo>
                  <a:pt x="17704" y="1888"/>
                  <a:pt x="17822" y="1863"/>
                  <a:pt x="17909" y="1836"/>
                </a:cubicBezTo>
                <a:cubicBezTo>
                  <a:pt x="17963" y="1819"/>
                  <a:pt x="18067" y="1715"/>
                  <a:pt x="18083" y="1662"/>
                </a:cubicBezTo>
                <a:cubicBezTo>
                  <a:pt x="18111" y="1570"/>
                  <a:pt x="18085" y="1428"/>
                  <a:pt x="18058" y="1339"/>
                </a:cubicBezTo>
                <a:cubicBezTo>
                  <a:pt x="18035" y="1261"/>
                  <a:pt x="17983" y="1182"/>
                  <a:pt x="17934" y="1116"/>
                </a:cubicBezTo>
                <a:cubicBezTo>
                  <a:pt x="17902" y="1073"/>
                  <a:pt x="17838" y="1018"/>
                  <a:pt x="17785" y="992"/>
                </a:cubicBezTo>
                <a:cubicBezTo>
                  <a:pt x="17671" y="937"/>
                  <a:pt x="17561" y="943"/>
                  <a:pt x="17438" y="943"/>
                </a:cubicBezTo>
                <a:cubicBezTo>
                  <a:pt x="17351" y="943"/>
                  <a:pt x="17281" y="947"/>
                  <a:pt x="17214" y="1017"/>
                </a:cubicBezTo>
                <a:cubicBezTo>
                  <a:pt x="17112" y="1123"/>
                  <a:pt x="17068" y="1279"/>
                  <a:pt x="17090" y="1414"/>
                </a:cubicBezTo>
                <a:cubicBezTo>
                  <a:pt x="17107" y="1518"/>
                  <a:pt x="17148" y="1562"/>
                  <a:pt x="17214" y="163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02160" y="1465200"/>
            <a:ext cx="519120" cy="963720"/>
          </a:xfrm>
          <a:custGeom>
            <a:avLst/>
            <a:gdLst/>
            <a:ahLst/>
            <a:rect l="l" t="t" r="r" b="b"/>
            <a:pathLst>
              <a:path w="1440" h="2680">
                <a:moveTo>
                  <a:pt x="15553" y="6102"/>
                </a:moveTo>
                <a:cubicBezTo>
                  <a:pt x="15598" y="6179"/>
                  <a:pt x="15650" y="6251"/>
                  <a:pt x="15701" y="6325"/>
                </a:cubicBezTo>
              </a:path>
              <a:path w="1440" h="2680">
                <a:moveTo>
                  <a:pt x="15701" y="6052"/>
                </a:moveTo>
                <a:cubicBezTo>
                  <a:pt x="15647" y="6172"/>
                  <a:pt x="15589" y="6284"/>
                  <a:pt x="15528" y="6400"/>
                </a:cubicBezTo>
              </a:path>
              <a:path w="1440" h="2680">
                <a:moveTo>
                  <a:pt x="15156" y="5978"/>
                </a:moveTo>
                <a:cubicBezTo>
                  <a:pt x="15181" y="5961"/>
                  <a:pt x="15205" y="5945"/>
                  <a:pt x="15230" y="5928"/>
                </a:cubicBezTo>
                <a:cubicBezTo>
                  <a:pt x="15342" y="6040"/>
                  <a:pt x="15323" y="6163"/>
                  <a:pt x="15230" y="6300"/>
                </a:cubicBezTo>
                <a:cubicBezTo>
                  <a:pt x="15162" y="6369"/>
                  <a:pt x="15146" y="6397"/>
                  <a:pt x="15081" y="6350"/>
                </a:cubicBezTo>
                <a:cubicBezTo>
                  <a:pt x="15094" y="6245"/>
                  <a:pt x="15128" y="6167"/>
                  <a:pt x="15255" y="6226"/>
                </a:cubicBezTo>
                <a:cubicBezTo>
                  <a:pt x="15299" y="6246"/>
                  <a:pt x="15325" y="6314"/>
                  <a:pt x="15354" y="6350"/>
                </a:cubicBezTo>
              </a:path>
              <a:path w="1440" h="2680">
                <a:moveTo>
                  <a:pt x="15032" y="5804"/>
                </a:moveTo>
                <a:cubicBezTo>
                  <a:pt x="15158" y="5791"/>
                  <a:pt x="15276" y="5760"/>
                  <a:pt x="15404" y="5755"/>
                </a:cubicBezTo>
                <a:cubicBezTo>
                  <a:pt x="15420" y="5755"/>
                  <a:pt x="15437" y="5755"/>
                  <a:pt x="15453" y="5755"/>
                </a:cubicBezTo>
              </a:path>
              <a:path w="1440" h="2680">
                <a:moveTo>
                  <a:pt x="15106" y="5383"/>
                </a:moveTo>
                <a:cubicBezTo>
                  <a:pt x="15106" y="5537"/>
                  <a:pt x="15117" y="5363"/>
                  <a:pt x="15131" y="5308"/>
                </a:cubicBezTo>
                <a:cubicBezTo>
                  <a:pt x="15266" y="5338"/>
                  <a:pt x="15314" y="5408"/>
                  <a:pt x="15255" y="5556"/>
                </a:cubicBezTo>
                <a:cubicBezTo>
                  <a:pt x="15203" y="5686"/>
                  <a:pt x="15143" y="5699"/>
                  <a:pt x="15032" y="5755"/>
                </a:cubicBezTo>
                <a:cubicBezTo>
                  <a:pt x="15010" y="5589"/>
                  <a:pt x="15022" y="5538"/>
                  <a:pt x="15205" y="5581"/>
                </a:cubicBezTo>
                <a:cubicBezTo>
                  <a:pt x="15290" y="5601"/>
                  <a:pt x="15308" y="5617"/>
                  <a:pt x="15354" y="5680"/>
                </a:cubicBezTo>
              </a:path>
              <a:path w="1440" h="2680">
                <a:moveTo>
                  <a:pt x="15156" y="6102"/>
                </a:moveTo>
                <a:cubicBezTo>
                  <a:pt x="15282" y="6172"/>
                  <a:pt x="15401" y="6255"/>
                  <a:pt x="15528" y="6325"/>
                </a:cubicBezTo>
                <a:cubicBezTo>
                  <a:pt x="15660" y="6398"/>
                  <a:pt x="15789" y="6515"/>
                  <a:pt x="15925" y="6573"/>
                </a:cubicBezTo>
                <a:cubicBezTo>
                  <a:pt x="16033" y="6619"/>
                  <a:pt x="16145" y="6706"/>
                  <a:pt x="16247" y="6747"/>
                </a:cubicBezTo>
                <a:cubicBezTo>
                  <a:pt x="16288" y="6747"/>
                  <a:pt x="16296" y="6747"/>
                  <a:pt x="16321" y="6747"/>
                </a:cubicBezTo>
              </a:path>
              <a:path w="1440" h="2680">
                <a:moveTo>
                  <a:pt x="15007" y="5606"/>
                </a:moveTo>
                <a:cubicBezTo>
                  <a:pt x="15271" y="5485"/>
                  <a:pt x="15529" y="5385"/>
                  <a:pt x="15801" y="5283"/>
                </a:cubicBezTo>
                <a:cubicBezTo>
                  <a:pt x="15982" y="5215"/>
                  <a:pt x="16166" y="5152"/>
                  <a:pt x="16346" y="5085"/>
                </a:cubicBezTo>
                <a:cubicBezTo>
                  <a:pt x="16387" y="5065"/>
                  <a:pt x="16393" y="5056"/>
                  <a:pt x="16421" y="5060"/>
                </a:cubicBezTo>
              </a:path>
              <a:path w="1440" h="2680">
                <a:moveTo>
                  <a:pt x="15900" y="4167"/>
                </a:moveTo>
                <a:cubicBezTo>
                  <a:pt x="15875" y="4343"/>
                  <a:pt x="15860" y="4521"/>
                  <a:pt x="15801" y="4688"/>
                </a:cubicBezTo>
              </a:path>
              <a:path w="1440" h="2680">
                <a:moveTo>
                  <a:pt x="16222" y="4068"/>
                </a:moveTo>
                <a:cubicBezTo>
                  <a:pt x="16111" y="4236"/>
                  <a:pt x="16105" y="4366"/>
                  <a:pt x="16123" y="4564"/>
                </a:cubicBezTo>
                <a:cubicBezTo>
                  <a:pt x="16259" y="4538"/>
                  <a:pt x="16580" y="4443"/>
                  <a:pt x="16421" y="4217"/>
                </a:cubicBezTo>
                <a:cubicBezTo>
                  <a:pt x="16317" y="4165"/>
                  <a:pt x="16280" y="4149"/>
                  <a:pt x="16197" y="416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19840" y="741240"/>
            <a:ext cx="35856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6446" y="2753"/>
                </a:moveTo>
                <a:cubicBezTo>
                  <a:pt x="16557" y="2791"/>
                  <a:pt x="16651" y="2798"/>
                  <a:pt x="16768" y="2778"/>
                </a:cubicBezTo>
                <a:cubicBezTo>
                  <a:pt x="16917" y="2752"/>
                  <a:pt x="17126" y="2774"/>
                  <a:pt x="17264" y="2729"/>
                </a:cubicBezTo>
                <a:cubicBezTo>
                  <a:pt x="17358" y="2698"/>
                  <a:pt x="17417" y="2655"/>
                  <a:pt x="17438" y="2555"/>
                </a:cubicBezTo>
                <a:cubicBezTo>
                  <a:pt x="17453" y="2486"/>
                  <a:pt x="17416" y="2380"/>
                  <a:pt x="17413" y="2307"/>
                </a:cubicBezTo>
                <a:cubicBezTo>
                  <a:pt x="17409" y="2188"/>
                  <a:pt x="17336" y="2156"/>
                  <a:pt x="17239" y="2108"/>
                </a:cubicBezTo>
                <a:cubicBezTo>
                  <a:pt x="17165" y="2071"/>
                  <a:pt x="17074" y="2062"/>
                  <a:pt x="16991" y="2059"/>
                </a:cubicBezTo>
                <a:cubicBezTo>
                  <a:pt x="16900" y="2056"/>
                  <a:pt x="16827" y="2070"/>
                  <a:pt x="16743" y="2108"/>
                </a:cubicBezTo>
                <a:cubicBezTo>
                  <a:pt x="16649" y="2150"/>
                  <a:pt x="16621" y="2192"/>
                  <a:pt x="16570" y="2282"/>
                </a:cubicBezTo>
                <a:cubicBezTo>
                  <a:pt x="16510" y="2388"/>
                  <a:pt x="16517" y="2470"/>
                  <a:pt x="16545" y="2580"/>
                </a:cubicBezTo>
                <a:cubicBezTo>
                  <a:pt x="16577" y="2707"/>
                  <a:pt x="16583" y="2748"/>
                  <a:pt x="16694" y="280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1455840"/>
            <a:ext cx="393480" cy="973080"/>
          </a:xfrm>
          <a:custGeom>
            <a:avLst/>
            <a:gdLst/>
            <a:ahLst/>
            <a:rect l="l" t="t" r="r" b="b"/>
            <a:pathLst>
              <a:path w="1092" h="2705">
                <a:moveTo>
                  <a:pt x="17785" y="6350"/>
                </a:moveTo>
                <a:cubicBezTo>
                  <a:pt x="17825" y="6419"/>
                  <a:pt x="17839" y="6492"/>
                  <a:pt x="17859" y="6573"/>
                </a:cubicBezTo>
              </a:path>
              <a:path w="1092" h="2705">
                <a:moveTo>
                  <a:pt x="17884" y="6325"/>
                </a:moveTo>
                <a:cubicBezTo>
                  <a:pt x="17847" y="6411"/>
                  <a:pt x="17805" y="6490"/>
                  <a:pt x="17760" y="6573"/>
                </a:cubicBezTo>
              </a:path>
              <a:path w="1092" h="2705">
                <a:moveTo>
                  <a:pt x="17959" y="6152"/>
                </a:moveTo>
                <a:cubicBezTo>
                  <a:pt x="18017" y="6152"/>
                  <a:pt x="18025" y="6152"/>
                  <a:pt x="18058" y="6152"/>
                </a:cubicBezTo>
                <a:cubicBezTo>
                  <a:pt x="18080" y="6265"/>
                  <a:pt x="18194" y="6228"/>
                  <a:pt x="18157" y="6350"/>
                </a:cubicBezTo>
                <a:cubicBezTo>
                  <a:pt x="18124" y="6460"/>
                  <a:pt x="18023" y="6449"/>
                  <a:pt x="17934" y="6449"/>
                </a:cubicBezTo>
              </a:path>
              <a:path w="1092" h="2705">
                <a:moveTo>
                  <a:pt x="17711" y="5333"/>
                </a:moveTo>
                <a:cubicBezTo>
                  <a:pt x="17756" y="5392"/>
                  <a:pt x="17779" y="5438"/>
                  <a:pt x="17810" y="5507"/>
                </a:cubicBezTo>
              </a:path>
              <a:path w="1092" h="2705">
                <a:moveTo>
                  <a:pt x="17835" y="5308"/>
                </a:moveTo>
                <a:cubicBezTo>
                  <a:pt x="17795" y="5368"/>
                  <a:pt x="17751" y="5421"/>
                  <a:pt x="17711" y="5482"/>
                </a:cubicBezTo>
              </a:path>
              <a:path w="1092" h="2705">
                <a:moveTo>
                  <a:pt x="18058" y="5259"/>
                </a:moveTo>
                <a:cubicBezTo>
                  <a:pt x="18175" y="5248"/>
                  <a:pt x="18218" y="5279"/>
                  <a:pt x="18107" y="5358"/>
                </a:cubicBezTo>
                <a:cubicBezTo>
                  <a:pt x="18211" y="5410"/>
                  <a:pt x="18184" y="5398"/>
                  <a:pt x="18107" y="5507"/>
                </a:cubicBezTo>
              </a:path>
              <a:path w="1092" h="2705">
                <a:moveTo>
                  <a:pt x="17140" y="6747"/>
                </a:moveTo>
                <a:cubicBezTo>
                  <a:pt x="17307" y="6719"/>
                  <a:pt x="17513" y="6620"/>
                  <a:pt x="17661" y="6548"/>
                </a:cubicBezTo>
                <a:cubicBezTo>
                  <a:pt x="17833" y="6464"/>
                  <a:pt x="18072" y="6381"/>
                  <a:pt x="18231" y="6276"/>
                </a:cubicBezTo>
              </a:path>
              <a:path w="1092" h="2705">
                <a:moveTo>
                  <a:pt x="17388" y="4266"/>
                </a:moveTo>
                <a:cubicBezTo>
                  <a:pt x="17394" y="4425"/>
                  <a:pt x="17413" y="4579"/>
                  <a:pt x="17413" y="4738"/>
                </a:cubicBezTo>
              </a:path>
              <a:path w="1092" h="2705">
                <a:moveTo>
                  <a:pt x="17785" y="4093"/>
                </a:moveTo>
                <a:cubicBezTo>
                  <a:pt x="17693" y="4151"/>
                  <a:pt x="17650" y="4158"/>
                  <a:pt x="17636" y="4266"/>
                </a:cubicBezTo>
                <a:cubicBezTo>
                  <a:pt x="17759" y="4266"/>
                  <a:pt x="17956" y="4238"/>
                  <a:pt x="18033" y="4366"/>
                </a:cubicBezTo>
                <a:cubicBezTo>
                  <a:pt x="18155" y="4570"/>
                  <a:pt x="17739" y="4519"/>
                  <a:pt x="17686" y="4514"/>
                </a:cubicBezTo>
              </a:path>
              <a:path w="1092" h="2705">
                <a:moveTo>
                  <a:pt x="17760" y="4142"/>
                </a:moveTo>
                <a:cubicBezTo>
                  <a:pt x="17886" y="4113"/>
                  <a:pt x="18008" y="4078"/>
                  <a:pt x="18132" y="4043"/>
                </a:cubicBezTo>
              </a:path>
              <a:path w="1092" h="2705">
                <a:moveTo>
                  <a:pt x="17140" y="5581"/>
                </a:moveTo>
                <a:cubicBezTo>
                  <a:pt x="17435" y="5414"/>
                  <a:pt x="17735" y="5242"/>
                  <a:pt x="18058" y="5135"/>
                </a:cubicBezTo>
                <a:cubicBezTo>
                  <a:pt x="18066" y="5135"/>
                  <a:pt x="18075" y="5135"/>
                  <a:pt x="18083" y="513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7960" y="1839960"/>
            <a:ext cx="1608120" cy="598320"/>
          </a:xfrm>
          <a:custGeom>
            <a:avLst/>
            <a:gdLst/>
            <a:ahLst/>
            <a:rect l="l" t="t" r="r" b="b"/>
            <a:pathLst>
              <a:path w="4466" h="1663">
                <a:moveTo>
                  <a:pt x="20910" y="5581"/>
                </a:moveTo>
                <a:cubicBezTo>
                  <a:pt x="20917" y="5739"/>
                  <a:pt x="20935" y="5893"/>
                  <a:pt x="20935" y="6052"/>
                </a:cubicBezTo>
              </a:path>
              <a:path w="4466" h="1663">
                <a:moveTo>
                  <a:pt x="21134" y="5556"/>
                </a:moveTo>
                <a:cubicBezTo>
                  <a:pt x="21062" y="5640"/>
                  <a:pt x="21098" y="5666"/>
                  <a:pt x="21109" y="5779"/>
                </a:cubicBezTo>
                <a:cubicBezTo>
                  <a:pt x="21207" y="5770"/>
                  <a:pt x="21515" y="5733"/>
                  <a:pt x="21382" y="5953"/>
                </a:cubicBezTo>
                <a:cubicBezTo>
                  <a:pt x="21285" y="6049"/>
                  <a:pt x="21257" y="6081"/>
                  <a:pt x="21158" y="6077"/>
                </a:cubicBezTo>
              </a:path>
              <a:path w="4466" h="1663">
                <a:moveTo>
                  <a:pt x="20985" y="6226"/>
                </a:moveTo>
                <a:cubicBezTo>
                  <a:pt x="21158" y="6176"/>
                  <a:pt x="21339" y="6138"/>
                  <a:pt x="21506" y="6077"/>
                </a:cubicBezTo>
              </a:path>
              <a:path w="4466" h="1663">
                <a:moveTo>
                  <a:pt x="20935" y="6400"/>
                </a:moveTo>
                <a:cubicBezTo>
                  <a:pt x="20935" y="6499"/>
                  <a:pt x="20935" y="6598"/>
                  <a:pt x="20935" y="6697"/>
                </a:cubicBezTo>
              </a:path>
              <a:path w="4466" h="1663">
                <a:moveTo>
                  <a:pt x="21233" y="6375"/>
                </a:moveTo>
                <a:cubicBezTo>
                  <a:pt x="21173" y="6454"/>
                  <a:pt x="21148" y="6463"/>
                  <a:pt x="21158" y="6524"/>
                </a:cubicBezTo>
                <a:cubicBezTo>
                  <a:pt x="21265" y="6548"/>
                  <a:pt x="21334" y="6559"/>
                  <a:pt x="21406" y="6623"/>
                </a:cubicBezTo>
                <a:cubicBezTo>
                  <a:pt x="21299" y="6697"/>
                  <a:pt x="21099" y="6751"/>
                  <a:pt x="21233" y="6524"/>
                </a:cubicBezTo>
                <a:cubicBezTo>
                  <a:pt x="21258" y="6499"/>
                  <a:pt x="21282" y="6474"/>
                  <a:pt x="21307" y="6449"/>
                </a:cubicBezTo>
              </a:path>
              <a:path w="4466" h="1663">
                <a:moveTo>
                  <a:pt x="21183" y="5556"/>
                </a:moveTo>
                <a:cubicBezTo>
                  <a:pt x="21144" y="5517"/>
                  <a:pt x="21348" y="5489"/>
                  <a:pt x="21406" y="5482"/>
                </a:cubicBezTo>
              </a:path>
              <a:path w="4466" h="1663">
                <a:moveTo>
                  <a:pt x="21233" y="6375"/>
                </a:moveTo>
                <a:cubicBezTo>
                  <a:pt x="21276" y="6353"/>
                  <a:pt x="21311" y="6334"/>
                  <a:pt x="21357" y="6325"/>
                </a:cubicBezTo>
                <a:cubicBezTo>
                  <a:pt x="21381" y="6373"/>
                  <a:pt x="21389" y="6387"/>
                  <a:pt x="21382" y="6424"/>
                </a:cubicBezTo>
              </a:path>
              <a:path w="4466" h="1663">
                <a:moveTo>
                  <a:pt x="21729" y="6102"/>
                </a:moveTo>
                <a:cubicBezTo>
                  <a:pt x="21845" y="6118"/>
                  <a:pt x="21954" y="6108"/>
                  <a:pt x="22076" y="6102"/>
                </a:cubicBezTo>
              </a:path>
              <a:path w="4466" h="1663">
                <a:moveTo>
                  <a:pt x="21853" y="6276"/>
                </a:moveTo>
                <a:cubicBezTo>
                  <a:pt x="21952" y="6276"/>
                  <a:pt x="22052" y="6276"/>
                  <a:pt x="22151" y="6276"/>
                </a:cubicBezTo>
              </a:path>
              <a:path w="4466" h="1663">
                <a:moveTo>
                  <a:pt x="22572" y="5606"/>
                </a:moveTo>
                <a:cubicBezTo>
                  <a:pt x="22547" y="5655"/>
                  <a:pt x="22539" y="5672"/>
                  <a:pt x="22523" y="5705"/>
                </a:cubicBezTo>
                <a:cubicBezTo>
                  <a:pt x="22538" y="5580"/>
                  <a:pt x="22609" y="5567"/>
                  <a:pt x="22696" y="5680"/>
                </a:cubicBezTo>
                <a:cubicBezTo>
                  <a:pt x="22817" y="5838"/>
                  <a:pt x="22539" y="6157"/>
                  <a:pt x="22374" y="6102"/>
                </a:cubicBezTo>
                <a:cubicBezTo>
                  <a:pt x="22366" y="6069"/>
                  <a:pt x="22357" y="6036"/>
                  <a:pt x="22349" y="6003"/>
                </a:cubicBezTo>
                <a:cubicBezTo>
                  <a:pt x="22514" y="5884"/>
                  <a:pt x="22574" y="5883"/>
                  <a:pt x="22721" y="6028"/>
                </a:cubicBezTo>
                <a:cubicBezTo>
                  <a:pt x="22729" y="6036"/>
                  <a:pt x="22738" y="6044"/>
                  <a:pt x="22746" y="6052"/>
                </a:cubicBezTo>
              </a:path>
              <a:path w="4466" h="1663">
                <a:moveTo>
                  <a:pt x="23118" y="5556"/>
                </a:moveTo>
                <a:cubicBezTo>
                  <a:pt x="22977" y="5603"/>
                  <a:pt x="22986" y="5597"/>
                  <a:pt x="22944" y="5755"/>
                </a:cubicBezTo>
                <a:cubicBezTo>
                  <a:pt x="23061" y="5789"/>
                  <a:pt x="23207" y="5719"/>
                  <a:pt x="23217" y="5879"/>
                </a:cubicBezTo>
                <a:cubicBezTo>
                  <a:pt x="23231" y="6113"/>
                  <a:pt x="22981" y="6047"/>
                  <a:pt x="22845" y="6028"/>
                </a:cubicBezTo>
              </a:path>
              <a:path w="4466" h="1663">
                <a:moveTo>
                  <a:pt x="22349" y="6276"/>
                </a:moveTo>
                <a:cubicBezTo>
                  <a:pt x="22410" y="6214"/>
                  <a:pt x="22717" y="6214"/>
                  <a:pt x="22820" y="6201"/>
                </a:cubicBezTo>
                <a:cubicBezTo>
                  <a:pt x="22945" y="6186"/>
                  <a:pt x="23074" y="6183"/>
                  <a:pt x="23192" y="6152"/>
                </a:cubicBezTo>
              </a:path>
              <a:path w="4466" h="1663">
                <a:moveTo>
                  <a:pt x="22523" y="6325"/>
                </a:moveTo>
                <a:cubicBezTo>
                  <a:pt x="22482" y="6479"/>
                  <a:pt x="22440" y="6626"/>
                  <a:pt x="22374" y="6772"/>
                </a:cubicBezTo>
              </a:path>
              <a:path w="4466" h="1663">
                <a:moveTo>
                  <a:pt x="22820" y="6499"/>
                </a:moveTo>
                <a:cubicBezTo>
                  <a:pt x="22726" y="6664"/>
                  <a:pt x="23066" y="6525"/>
                  <a:pt x="22944" y="6722"/>
                </a:cubicBezTo>
                <a:cubicBezTo>
                  <a:pt x="22854" y="6745"/>
                  <a:pt x="22830" y="6753"/>
                  <a:pt x="22771" y="6747"/>
                </a:cubicBezTo>
                <a:cubicBezTo>
                  <a:pt x="22797" y="6606"/>
                  <a:pt x="22894" y="6534"/>
                  <a:pt x="22845" y="6424"/>
                </a:cubicBezTo>
              </a:path>
              <a:path w="4466" h="1663">
                <a:moveTo>
                  <a:pt x="22895" y="6474"/>
                </a:moveTo>
                <a:cubicBezTo>
                  <a:pt x="22921" y="6395"/>
                  <a:pt x="22994" y="6338"/>
                  <a:pt x="22994" y="6251"/>
                </a:cubicBezTo>
                <a:cubicBezTo>
                  <a:pt x="22950" y="6224"/>
                  <a:pt x="22841" y="6216"/>
                  <a:pt x="22796" y="6251"/>
                </a:cubicBezTo>
                <a:cubicBezTo>
                  <a:pt x="22773" y="6269"/>
                  <a:pt x="22652" y="6426"/>
                  <a:pt x="22671" y="6449"/>
                </a:cubicBezTo>
                <a:cubicBezTo>
                  <a:pt x="22696" y="6466"/>
                  <a:pt x="22721" y="6482"/>
                  <a:pt x="22746" y="6499"/>
                </a:cubicBezTo>
              </a:path>
              <a:path w="4466" h="1663">
                <a:moveTo>
                  <a:pt x="23316" y="6201"/>
                </a:moveTo>
                <a:cubicBezTo>
                  <a:pt x="23375" y="6179"/>
                  <a:pt x="23401" y="6176"/>
                  <a:pt x="23465" y="6176"/>
                </a:cubicBezTo>
              </a:path>
              <a:path w="4466" h="1663">
                <a:moveTo>
                  <a:pt x="23292" y="6350"/>
                </a:moveTo>
                <a:cubicBezTo>
                  <a:pt x="23354" y="6345"/>
                  <a:pt x="23405" y="6335"/>
                  <a:pt x="23465" y="6325"/>
                </a:cubicBezTo>
              </a:path>
              <a:path w="4466" h="1663">
                <a:moveTo>
                  <a:pt x="24433" y="6052"/>
                </a:moveTo>
                <a:cubicBezTo>
                  <a:pt x="24466" y="6019"/>
                  <a:pt x="24482" y="6003"/>
                  <a:pt x="24507" y="5978"/>
                </a:cubicBezTo>
                <a:cubicBezTo>
                  <a:pt x="24638" y="6110"/>
                  <a:pt x="24615" y="6246"/>
                  <a:pt x="24482" y="6400"/>
                </a:cubicBezTo>
                <a:cubicBezTo>
                  <a:pt x="24403" y="6459"/>
                  <a:pt x="24394" y="6484"/>
                  <a:pt x="24333" y="6474"/>
                </a:cubicBezTo>
                <a:cubicBezTo>
                  <a:pt x="24323" y="6352"/>
                  <a:pt x="24354" y="6321"/>
                  <a:pt x="24482" y="6375"/>
                </a:cubicBezTo>
                <a:cubicBezTo>
                  <a:pt x="24553" y="6405"/>
                  <a:pt x="24532" y="6430"/>
                  <a:pt x="24532" y="6499"/>
                </a:cubicBezTo>
              </a:path>
              <a:path w="4466" h="1663">
                <a:moveTo>
                  <a:pt x="24854" y="5953"/>
                </a:moveTo>
                <a:cubicBezTo>
                  <a:pt x="24805" y="5974"/>
                  <a:pt x="24742" y="5967"/>
                  <a:pt x="24730" y="6028"/>
                </a:cubicBezTo>
                <a:cubicBezTo>
                  <a:pt x="24704" y="6162"/>
                  <a:pt x="24848" y="6112"/>
                  <a:pt x="24929" y="6152"/>
                </a:cubicBezTo>
                <a:cubicBezTo>
                  <a:pt x="25060" y="6217"/>
                  <a:pt x="25036" y="6342"/>
                  <a:pt x="24904" y="6400"/>
                </a:cubicBezTo>
                <a:cubicBezTo>
                  <a:pt x="24789" y="6422"/>
                  <a:pt x="24757" y="6430"/>
                  <a:pt x="24681" y="6424"/>
                </a:cubicBezTo>
              </a:path>
              <a:path w="4466" h="1663">
                <a:moveTo>
                  <a:pt x="24085" y="6648"/>
                </a:moveTo>
                <a:cubicBezTo>
                  <a:pt x="24153" y="6513"/>
                  <a:pt x="24180" y="6406"/>
                  <a:pt x="24160" y="6251"/>
                </a:cubicBezTo>
                <a:cubicBezTo>
                  <a:pt x="24146" y="6141"/>
                  <a:pt x="24135" y="6041"/>
                  <a:pt x="24135" y="5928"/>
                </a:cubicBezTo>
                <a:cubicBezTo>
                  <a:pt x="24334" y="5880"/>
                  <a:pt x="24549" y="5885"/>
                  <a:pt x="24755" y="5829"/>
                </a:cubicBezTo>
                <a:cubicBezTo>
                  <a:pt x="24957" y="5774"/>
                  <a:pt x="25171" y="5667"/>
                  <a:pt x="25375" y="5705"/>
                </a:cubicBezTo>
              </a:path>
              <a:path w="4466" h="1663">
                <a:moveTo>
                  <a:pt x="23713" y="6176"/>
                </a:moveTo>
                <a:cubicBezTo>
                  <a:pt x="23670" y="6199"/>
                  <a:pt x="23621" y="6411"/>
                  <a:pt x="23589" y="6524"/>
                </a:cubicBezTo>
              </a:path>
              <a:path w="4466" h="1663">
                <a:moveTo>
                  <a:pt x="23937" y="6127"/>
                </a:moveTo>
                <a:cubicBezTo>
                  <a:pt x="23864" y="6206"/>
                  <a:pt x="23783" y="6261"/>
                  <a:pt x="23887" y="6350"/>
                </a:cubicBezTo>
                <a:cubicBezTo>
                  <a:pt x="24001" y="6448"/>
                  <a:pt x="24056" y="6467"/>
                  <a:pt x="23937" y="6573"/>
                </a:cubicBezTo>
                <a:cubicBezTo>
                  <a:pt x="23870" y="6454"/>
                  <a:pt x="23949" y="6404"/>
                  <a:pt x="24011" y="6276"/>
                </a:cubicBezTo>
                <a:cubicBezTo>
                  <a:pt x="24045" y="6205"/>
                  <a:pt x="24038" y="6197"/>
                  <a:pt x="24011" y="6127"/>
                </a:cubicBezTo>
              </a:path>
              <a:path w="4466" h="1663">
                <a:moveTo>
                  <a:pt x="24705" y="5110"/>
                </a:moveTo>
                <a:cubicBezTo>
                  <a:pt x="24711" y="5252"/>
                  <a:pt x="24730" y="5389"/>
                  <a:pt x="24730" y="5531"/>
                </a:cubicBezTo>
                <a:cubicBezTo>
                  <a:pt x="24730" y="5539"/>
                  <a:pt x="24730" y="5548"/>
                  <a:pt x="24730" y="555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35880" y="2384280"/>
            <a:ext cx="1528920" cy="731880"/>
          </a:xfrm>
          <a:custGeom>
            <a:avLst/>
            <a:gdLst/>
            <a:ahLst/>
            <a:rect l="l" t="t" r="r" b="b"/>
            <a:pathLst>
              <a:path w="4243" h="2035">
                <a:moveTo>
                  <a:pt x="24433" y="6672"/>
                </a:moveTo>
                <a:cubicBezTo>
                  <a:pt x="24466" y="6775"/>
                  <a:pt x="24448" y="6860"/>
                  <a:pt x="24433" y="6970"/>
                </a:cubicBezTo>
              </a:path>
              <a:path w="4243" h="2035">
                <a:moveTo>
                  <a:pt x="25053" y="6623"/>
                </a:moveTo>
                <a:cubicBezTo>
                  <a:pt x="24996" y="6629"/>
                  <a:pt x="24798" y="6631"/>
                  <a:pt x="24805" y="6747"/>
                </a:cubicBezTo>
                <a:cubicBezTo>
                  <a:pt x="24810" y="6833"/>
                  <a:pt x="24925" y="6860"/>
                  <a:pt x="24978" y="6896"/>
                </a:cubicBezTo>
                <a:cubicBezTo>
                  <a:pt x="24941" y="6994"/>
                  <a:pt x="24914" y="6983"/>
                  <a:pt x="24805" y="7020"/>
                </a:cubicBezTo>
                <a:cubicBezTo>
                  <a:pt x="24836" y="6886"/>
                  <a:pt x="24943" y="6808"/>
                  <a:pt x="24978" y="6672"/>
                </a:cubicBezTo>
                <a:cubicBezTo>
                  <a:pt x="24978" y="6615"/>
                  <a:pt x="24970" y="6598"/>
                  <a:pt x="24904" y="6623"/>
                </a:cubicBezTo>
              </a:path>
              <a:path w="4243" h="2035">
                <a:moveTo>
                  <a:pt x="24011" y="6871"/>
                </a:moveTo>
                <a:cubicBezTo>
                  <a:pt x="24068" y="6843"/>
                  <a:pt x="24091" y="6832"/>
                  <a:pt x="24135" y="6821"/>
                </a:cubicBezTo>
              </a:path>
              <a:path w="4243" h="2035">
                <a:moveTo>
                  <a:pt x="24160" y="7243"/>
                </a:moveTo>
                <a:cubicBezTo>
                  <a:pt x="24444" y="7181"/>
                  <a:pt x="24760" y="7063"/>
                  <a:pt x="25053" y="7069"/>
                </a:cubicBezTo>
                <a:cubicBezTo>
                  <a:pt x="25127" y="7088"/>
                  <a:pt x="25134" y="7096"/>
                  <a:pt x="25177" y="7094"/>
                </a:cubicBezTo>
              </a:path>
              <a:path w="4243" h="2035">
                <a:moveTo>
                  <a:pt x="24879" y="7417"/>
                </a:moveTo>
                <a:cubicBezTo>
                  <a:pt x="24879" y="7296"/>
                  <a:pt x="25029" y="7343"/>
                  <a:pt x="25152" y="7293"/>
                </a:cubicBezTo>
                <a:cubicBezTo>
                  <a:pt x="25160" y="7285"/>
                  <a:pt x="25169" y="7276"/>
                  <a:pt x="25177" y="7268"/>
                </a:cubicBezTo>
                <a:cubicBezTo>
                  <a:pt x="25132" y="7440"/>
                  <a:pt x="25047" y="7602"/>
                  <a:pt x="25003" y="7764"/>
                </a:cubicBezTo>
              </a:path>
              <a:path w="4243" h="2035">
                <a:moveTo>
                  <a:pt x="21803" y="7615"/>
                </a:moveTo>
                <a:cubicBezTo>
                  <a:pt x="21797" y="7846"/>
                  <a:pt x="21766" y="8038"/>
                  <a:pt x="21729" y="8260"/>
                </a:cubicBezTo>
              </a:path>
              <a:path w="4243" h="2035">
                <a:moveTo>
                  <a:pt x="22200" y="7169"/>
                </a:moveTo>
                <a:cubicBezTo>
                  <a:pt x="22325" y="7130"/>
                  <a:pt x="22397" y="7112"/>
                  <a:pt x="22523" y="7144"/>
                </a:cubicBezTo>
                <a:cubicBezTo>
                  <a:pt x="22504" y="7228"/>
                  <a:pt x="22462" y="7309"/>
                  <a:pt x="22423" y="7392"/>
                </a:cubicBezTo>
                <a:cubicBezTo>
                  <a:pt x="22415" y="7408"/>
                  <a:pt x="22407" y="7425"/>
                  <a:pt x="22399" y="7441"/>
                </a:cubicBezTo>
              </a:path>
              <a:path w="4243" h="2035">
                <a:moveTo>
                  <a:pt x="22275" y="7689"/>
                </a:moveTo>
                <a:cubicBezTo>
                  <a:pt x="22409" y="7650"/>
                  <a:pt x="22535" y="7608"/>
                  <a:pt x="22671" y="7590"/>
                </a:cubicBezTo>
              </a:path>
              <a:path w="4243" h="2035">
                <a:moveTo>
                  <a:pt x="22299" y="7838"/>
                </a:moveTo>
                <a:cubicBezTo>
                  <a:pt x="22266" y="7987"/>
                  <a:pt x="22219" y="8134"/>
                  <a:pt x="22200" y="8285"/>
                </a:cubicBezTo>
              </a:path>
              <a:path w="4243" h="2035">
                <a:moveTo>
                  <a:pt x="22647" y="7838"/>
                </a:moveTo>
                <a:cubicBezTo>
                  <a:pt x="22537" y="7882"/>
                  <a:pt x="22504" y="7887"/>
                  <a:pt x="22473" y="7962"/>
                </a:cubicBezTo>
                <a:cubicBezTo>
                  <a:pt x="22563" y="7990"/>
                  <a:pt x="22821" y="8053"/>
                  <a:pt x="22696" y="8210"/>
                </a:cubicBezTo>
                <a:cubicBezTo>
                  <a:pt x="22671" y="8218"/>
                  <a:pt x="22647" y="8227"/>
                  <a:pt x="22622" y="8235"/>
                </a:cubicBezTo>
                <a:cubicBezTo>
                  <a:pt x="22587" y="8086"/>
                  <a:pt x="22620" y="8008"/>
                  <a:pt x="22671" y="7863"/>
                </a:cubicBezTo>
              </a:path>
              <a:path w="4243" h="2035">
                <a:moveTo>
                  <a:pt x="21282" y="8359"/>
                </a:moveTo>
                <a:cubicBezTo>
                  <a:pt x="21517" y="8467"/>
                  <a:pt x="21773" y="8575"/>
                  <a:pt x="22027" y="8632"/>
                </a:cubicBezTo>
                <a:cubicBezTo>
                  <a:pt x="22311" y="8696"/>
                  <a:pt x="22569" y="8610"/>
                  <a:pt x="22820" y="8483"/>
                </a:cubicBezTo>
                <a:cubicBezTo>
                  <a:pt x="23048" y="8367"/>
                  <a:pt x="23255" y="8232"/>
                  <a:pt x="23391" y="8012"/>
                </a:cubicBezTo>
                <a:cubicBezTo>
                  <a:pt x="23527" y="7792"/>
                  <a:pt x="23488" y="7599"/>
                  <a:pt x="23416" y="7367"/>
                </a:cubicBezTo>
                <a:cubicBezTo>
                  <a:pt x="23356" y="7173"/>
                  <a:pt x="23255" y="7098"/>
                  <a:pt x="23093" y="6995"/>
                </a:cubicBezTo>
                <a:cubicBezTo>
                  <a:pt x="22920" y="6885"/>
                  <a:pt x="22767" y="6860"/>
                  <a:pt x="22572" y="6821"/>
                </a:cubicBezTo>
                <a:cubicBezTo>
                  <a:pt x="22406" y="6788"/>
                  <a:pt x="22242" y="6799"/>
                  <a:pt x="22076" y="6821"/>
                </a:cubicBezTo>
                <a:cubicBezTo>
                  <a:pt x="21911" y="6843"/>
                  <a:pt x="21735" y="6911"/>
                  <a:pt x="21580" y="6970"/>
                </a:cubicBezTo>
                <a:cubicBezTo>
                  <a:pt x="21370" y="7050"/>
                  <a:pt x="21088" y="7214"/>
                  <a:pt x="21010" y="7441"/>
                </a:cubicBezTo>
                <a:cubicBezTo>
                  <a:pt x="20921" y="7700"/>
                  <a:pt x="20923" y="7999"/>
                  <a:pt x="20985" y="8260"/>
                </a:cubicBezTo>
                <a:cubicBezTo>
                  <a:pt x="21021" y="8409"/>
                  <a:pt x="21145" y="8451"/>
                  <a:pt x="21282" y="8508"/>
                </a:cubicBezTo>
                <a:cubicBezTo>
                  <a:pt x="21354" y="8538"/>
                  <a:pt x="21410" y="8560"/>
                  <a:pt x="21481" y="85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80080" y="2589120"/>
            <a:ext cx="222120" cy="216000"/>
          </a:xfrm>
          <a:custGeom>
            <a:avLst/>
            <a:gdLst/>
            <a:ahLst/>
            <a:rect l="l" t="t" r="r" b="b"/>
            <a:pathLst>
              <a:path w="621" h="597">
                <a:moveTo>
                  <a:pt x="15801" y="7243"/>
                </a:moveTo>
                <a:cubicBezTo>
                  <a:pt x="15801" y="7410"/>
                  <a:pt x="15782" y="7573"/>
                  <a:pt x="15776" y="7739"/>
                </a:cubicBezTo>
                <a:cubicBezTo>
                  <a:pt x="15776" y="7756"/>
                  <a:pt x="15776" y="7772"/>
                  <a:pt x="15776" y="7789"/>
                </a:cubicBezTo>
              </a:path>
              <a:path w="621" h="597">
                <a:moveTo>
                  <a:pt x="16396" y="7218"/>
                </a:moveTo>
                <a:cubicBezTo>
                  <a:pt x="16259" y="7181"/>
                  <a:pt x="16186" y="7188"/>
                  <a:pt x="16073" y="7268"/>
                </a:cubicBezTo>
                <a:cubicBezTo>
                  <a:pt x="16113" y="7447"/>
                  <a:pt x="16291" y="7399"/>
                  <a:pt x="16371" y="7541"/>
                </a:cubicBezTo>
                <a:cubicBezTo>
                  <a:pt x="16371" y="7574"/>
                  <a:pt x="16371" y="7607"/>
                  <a:pt x="16371" y="7640"/>
                </a:cubicBezTo>
                <a:cubicBezTo>
                  <a:pt x="16307" y="7681"/>
                  <a:pt x="16022" y="7774"/>
                  <a:pt x="16123" y="7565"/>
                </a:cubicBezTo>
                <a:cubicBezTo>
                  <a:pt x="16175" y="7457"/>
                  <a:pt x="16297" y="7363"/>
                  <a:pt x="16371" y="726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9680" y="2581200"/>
            <a:ext cx="258480" cy="177840"/>
          </a:xfrm>
          <a:custGeom>
            <a:avLst/>
            <a:gdLst/>
            <a:ahLst/>
            <a:rect l="l" t="t" r="r" b="b"/>
            <a:pathLst>
              <a:path w="720" h="497">
                <a:moveTo>
                  <a:pt x="17388" y="7193"/>
                </a:moveTo>
                <a:cubicBezTo>
                  <a:pt x="17438" y="7358"/>
                  <a:pt x="17438" y="7490"/>
                  <a:pt x="17438" y="7665"/>
                </a:cubicBezTo>
              </a:path>
              <a:path w="720" h="497">
                <a:moveTo>
                  <a:pt x="17909" y="7193"/>
                </a:moveTo>
                <a:cubicBezTo>
                  <a:pt x="17806" y="7172"/>
                  <a:pt x="17800" y="7160"/>
                  <a:pt x="17711" y="7193"/>
                </a:cubicBezTo>
                <a:cubicBezTo>
                  <a:pt x="17684" y="7326"/>
                  <a:pt x="17758" y="7307"/>
                  <a:pt x="17884" y="7367"/>
                </a:cubicBezTo>
                <a:cubicBezTo>
                  <a:pt x="18038" y="7441"/>
                  <a:pt x="18071" y="7445"/>
                  <a:pt x="18107" y="7590"/>
                </a:cubicBezTo>
                <a:cubicBezTo>
                  <a:pt x="18031" y="7614"/>
                  <a:pt x="17776" y="7688"/>
                  <a:pt x="17810" y="7516"/>
                </a:cubicBezTo>
                <a:cubicBezTo>
                  <a:pt x="17831" y="7412"/>
                  <a:pt x="17927" y="7306"/>
                  <a:pt x="17983" y="721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52360" y="1152360"/>
            <a:ext cx="2411640" cy="88920"/>
          </a:xfrm>
          <a:custGeom>
            <a:avLst/>
            <a:gdLst/>
            <a:ahLst/>
            <a:rect l="l" t="t" r="r" b="b"/>
            <a:pathLst>
              <a:path w="6698" h="249">
                <a:moveTo>
                  <a:pt x="3200" y="3200"/>
                </a:moveTo>
                <a:cubicBezTo>
                  <a:pt x="3308" y="3232"/>
                  <a:pt x="3407" y="3264"/>
                  <a:pt x="3522" y="3274"/>
                </a:cubicBezTo>
                <a:cubicBezTo>
                  <a:pt x="3905" y="3306"/>
                  <a:pt x="4306" y="3284"/>
                  <a:pt x="4688" y="3299"/>
                </a:cubicBezTo>
                <a:cubicBezTo>
                  <a:pt x="4839" y="3305"/>
                  <a:pt x="4986" y="3304"/>
                  <a:pt x="5135" y="3324"/>
                </a:cubicBezTo>
                <a:cubicBezTo>
                  <a:pt x="5243" y="3338"/>
                  <a:pt x="5346" y="3367"/>
                  <a:pt x="5457" y="3373"/>
                </a:cubicBezTo>
                <a:cubicBezTo>
                  <a:pt x="5599" y="3381"/>
                  <a:pt x="5738" y="3395"/>
                  <a:pt x="5879" y="3398"/>
                </a:cubicBezTo>
                <a:cubicBezTo>
                  <a:pt x="6022" y="3401"/>
                  <a:pt x="6156" y="3420"/>
                  <a:pt x="6300" y="3423"/>
                </a:cubicBezTo>
                <a:cubicBezTo>
                  <a:pt x="6467" y="3426"/>
                  <a:pt x="6627" y="3448"/>
                  <a:pt x="6796" y="3448"/>
                </a:cubicBezTo>
                <a:cubicBezTo>
                  <a:pt x="7760" y="3448"/>
                  <a:pt x="8739" y="3492"/>
                  <a:pt x="9699" y="3423"/>
                </a:cubicBezTo>
                <a:cubicBezTo>
                  <a:pt x="9814" y="3404"/>
                  <a:pt x="9830" y="3395"/>
                  <a:pt x="9897" y="339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1000" y="195588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8976" y="5432"/>
                </a:moveTo>
                <a:cubicBezTo>
                  <a:pt x="19002" y="5606"/>
                  <a:pt x="19026" y="5779"/>
                  <a:pt x="19050" y="595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19920" y="193824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19372" y="5383"/>
                </a:moveTo>
                <a:cubicBezTo>
                  <a:pt x="19235" y="5544"/>
                  <a:pt x="19240" y="5703"/>
                  <a:pt x="19273" y="5904"/>
                </a:cubicBezTo>
                <a:cubicBezTo>
                  <a:pt x="19479" y="5903"/>
                  <a:pt x="19651" y="5813"/>
                  <a:pt x="19546" y="5556"/>
                </a:cubicBezTo>
                <a:cubicBezTo>
                  <a:pt x="19521" y="5531"/>
                  <a:pt x="19497" y="5507"/>
                  <a:pt x="19472" y="54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31000" y="2205000"/>
            <a:ext cx="258840" cy="36720"/>
          </a:xfrm>
          <a:custGeom>
            <a:avLst/>
            <a:gdLst/>
            <a:ahLst/>
            <a:rect l="l" t="t" r="r" b="b"/>
            <a:pathLst>
              <a:path w="720" h="100">
                <a:moveTo>
                  <a:pt x="18976" y="6226"/>
                </a:moveTo>
                <a:cubicBezTo>
                  <a:pt x="19209" y="6208"/>
                  <a:pt x="19438" y="6156"/>
                  <a:pt x="19670" y="6127"/>
                </a:cubicBezTo>
                <a:cubicBezTo>
                  <a:pt x="19678" y="6127"/>
                  <a:pt x="19687" y="6127"/>
                  <a:pt x="19695" y="61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85000" y="2268360"/>
            <a:ext cx="17280" cy="169920"/>
          </a:xfrm>
          <a:custGeom>
            <a:avLst/>
            <a:gdLst/>
            <a:ahLst/>
            <a:rect l="l" t="t" r="r" b="b"/>
            <a:pathLst>
              <a:path w="51" h="473">
                <a:moveTo>
                  <a:pt x="19124" y="6300"/>
                </a:moveTo>
                <a:cubicBezTo>
                  <a:pt x="19132" y="6459"/>
                  <a:pt x="19161" y="6614"/>
                  <a:pt x="19174" y="677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66000" y="2259000"/>
            <a:ext cx="1238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9546" y="6276"/>
                </a:moveTo>
                <a:cubicBezTo>
                  <a:pt x="19474" y="6333"/>
                  <a:pt x="19412" y="6384"/>
                  <a:pt x="19348" y="6449"/>
                </a:cubicBezTo>
                <a:cubicBezTo>
                  <a:pt x="19470" y="6520"/>
                  <a:pt x="19582" y="6570"/>
                  <a:pt x="19695" y="6648"/>
                </a:cubicBezTo>
                <a:cubicBezTo>
                  <a:pt x="19624" y="6692"/>
                  <a:pt x="19409" y="6799"/>
                  <a:pt x="19472" y="6598"/>
                </a:cubicBezTo>
                <a:cubicBezTo>
                  <a:pt x="19507" y="6485"/>
                  <a:pt x="19592" y="6392"/>
                  <a:pt x="19621" y="627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96120" y="2125800"/>
            <a:ext cx="34920" cy="142560"/>
          </a:xfrm>
          <a:custGeom>
            <a:avLst/>
            <a:gdLst/>
            <a:ahLst/>
            <a:rect l="l" t="t" r="r" b="b"/>
            <a:pathLst>
              <a:path w="101" h="397">
                <a:moveTo>
                  <a:pt x="20265" y="5904"/>
                </a:moveTo>
                <a:cubicBezTo>
                  <a:pt x="20293" y="6039"/>
                  <a:pt x="20328" y="6167"/>
                  <a:pt x="20365" y="630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9120" y="2170080"/>
            <a:ext cx="115920" cy="44640"/>
          </a:xfrm>
          <a:custGeom>
            <a:avLst/>
            <a:gdLst/>
            <a:ahLst/>
            <a:rect l="l" t="t" r="r" b="b"/>
            <a:pathLst>
              <a:path w="323" h="125">
                <a:moveTo>
                  <a:pt x="20191" y="6152"/>
                </a:moveTo>
                <a:cubicBezTo>
                  <a:pt x="20302" y="6115"/>
                  <a:pt x="20407" y="6075"/>
                  <a:pt x="20513" y="602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g. 77 problems 3-14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W pg. 79 problems 1-11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4T17:46:18Z</dcterms:modified>
  <cp:revision>35</cp:revision>
  <dc:subject/>
  <dc:title>Unit 1 – Variables and Equations </dc:title>
</cp:coreProperties>
</file>